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6.png" ContentType="image/png"/>
  <Override PartName="/ppt/media/image13.png" ContentType="image/png"/>
  <Override PartName="/ppt/media/da-wa.wav" ContentType="audio/x-wav"/>
  <Override PartName="/ppt/media/image18.png" ContentType="image/png"/>
  <Override PartName="/ppt/media/image2.png" ContentType="image/png"/>
  <Override PartName="/ppt/media/image4.png" ContentType="image/png"/>
  <Override PartName="/ppt/media/phone.wav" ContentType="audio/x-wav"/>
  <Override PartName="/ppt/media/image5.gif" ContentType="image/gif"/>
  <Override PartName="/ppt/media/blewmind.wav" ContentType="audio/x-wav"/>
  <Override PartName="/ppt/media/image8.png" ContentType="image/png"/>
  <Override PartName="/ppt/media/brain.wav" ContentType="audio/x-wav"/>
  <Override PartName="/ppt/media/image10.png" ContentType="image/png"/>
  <Override PartName="/ppt/media/image3.png" ContentType="image/png"/>
  <Override PartName="/ppt/media/oops.wav" ContentType="audio/x-wav"/>
  <Override PartName="/ppt/media/image17.png" ContentType="image/png"/>
  <Override PartName="/ppt/media/drumroll.wav" ContentType="audio/x-wav"/>
  <Override PartName="/ppt/media/image15.png" ContentType="image/png"/>
  <Override PartName="/ppt/media/amazing.wav" ContentType="audio/x-wav"/>
  <Override PartName="/ppt/media/seethis.wav" ContentType="audio/x-wav"/>
  <Override PartName="/ppt/media/image9.gif" ContentType="image/gif"/>
  <Override PartName="/ppt/media/image1.png" ContentType="image/png"/>
  <Override PartName="/ppt/media/alwayssomething..wav" ContentType="audio/x-wav"/>
  <Override PartName="/ppt/media/image12.png" ContentType="image/png"/>
  <Override PartName="/ppt/media/image11.png" ContentType="image/png"/>
  <Override PartName="/ppt/media/bounce.wav" ContentType="audio/x-wav"/>
  <Override PartName="/ppt/media/coolesthing.wav" ContentType="audio/x-wav"/>
  <Override PartName="/ppt/media/howdoulike.wav" ContentType="audio/x-wav"/>
  <Override PartName="/ppt/media/image14.png" ContentType="image/png"/>
  <Override PartName="/ppt/media/image6.png" ContentType="image/png"/>
  <Override PartName="/ppt/media/letssee.wav" ContentType="audio/x-wav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  <p:sldId id="280" r:id="rId50"/>
    <p:sldId id="281" r:id="rId51"/>
    <p:sldId id="282" r:id="rId52"/>
    <p:sldId id="283" r:id="rId53"/>
    <p:sldId id="284" r:id="rId54"/>
    <p:sldId id="285" r:id="rId55"/>
    <p:sldId id="286" r:id="rId56"/>
    <p:sldId id="287" r:id="rId57"/>
    <p:sldId id="288" r:id="rId58"/>
    <p:sldId id="289" r:id="rId59"/>
    <p:sldId id="290" r:id="rId60"/>
    <p:sldId id="291" r:id="rId61"/>
    <p:sldId id="292" r:id="rId62"/>
    <p:sldId id="293" r:id="rId63"/>
    <p:sldId id="294" r:id="rId64"/>
    <p:sldId id="295" r:id="rId65"/>
    <p:sldId id="296" r:id="rId66"/>
    <p:sldId id="297" r:id="rId67"/>
    <p:sldId id="298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slide" Target="slides/slide25.xml"/><Relationship Id="rId51" Type="http://schemas.openxmlformats.org/officeDocument/2006/relationships/slide" Target="slides/slide26.xml"/><Relationship Id="rId52" Type="http://schemas.openxmlformats.org/officeDocument/2006/relationships/slide" Target="slides/slide27.xml"/><Relationship Id="rId53" Type="http://schemas.openxmlformats.org/officeDocument/2006/relationships/slide" Target="slides/slide28.xml"/><Relationship Id="rId54" Type="http://schemas.openxmlformats.org/officeDocument/2006/relationships/slide" Target="slides/slide29.xml"/><Relationship Id="rId55" Type="http://schemas.openxmlformats.org/officeDocument/2006/relationships/slide" Target="slides/slide30.xml"/><Relationship Id="rId56" Type="http://schemas.openxmlformats.org/officeDocument/2006/relationships/slide" Target="slides/slide31.xml"/><Relationship Id="rId57" Type="http://schemas.openxmlformats.org/officeDocument/2006/relationships/slide" Target="slides/slide32.xml"/><Relationship Id="rId58" Type="http://schemas.openxmlformats.org/officeDocument/2006/relationships/slide" Target="slides/slide33.xml"/><Relationship Id="rId59" Type="http://schemas.openxmlformats.org/officeDocument/2006/relationships/slide" Target="slides/slide34.xml"/><Relationship Id="rId60" Type="http://schemas.openxmlformats.org/officeDocument/2006/relationships/slide" Target="slides/slide35.xml"/><Relationship Id="rId61" Type="http://schemas.openxmlformats.org/officeDocument/2006/relationships/slide" Target="slides/slide36.xml"/><Relationship Id="rId62" Type="http://schemas.openxmlformats.org/officeDocument/2006/relationships/slide" Target="slides/slide37.xml"/><Relationship Id="rId63" Type="http://schemas.openxmlformats.org/officeDocument/2006/relationships/slide" Target="slides/slide38.xml"/><Relationship Id="rId64" Type="http://schemas.openxmlformats.org/officeDocument/2006/relationships/slide" Target="slides/slide39.xml"/><Relationship Id="rId65" Type="http://schemas.openxmlformats.org/officeDocument/2006/relationships/slide" Target="slides/slide40.xml"/><Relationship Id="rId66" Type="http://schemas.openxmlformats.org/officeDocument/2006/relationships/slide" Target="slides/slide41.xml"/><Relationship Id="rId67" Type="http://schemas.openxmlformats.org/officeDocument/2006/relationships/slide" Target="slides/slide42.xml"/><Relationship Id="rId68" Type="http://schemas.openxmlformats.org/officeDocument/2006/relationships/slide" Target="slides/slide43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B6B6-F589-4780-95F1-BEBC7D022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8CC2-776C-4401-BA4F-DA5D4F9A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85435-59DF-4293-8EFA-99BB9A7E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93766-8935-416D-98FE-7AF1858C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BA883-3D19-4003-A3DE-762F4F2C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BEBD3-0D54-4128-960A-030BEB99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E6CBF-3933-4590-ACE5-21BE7397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E6698-614B-4824-B04A-1D93CFD0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F089D-AAC7-4F62-A157-0941C823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97D6E-F2E0-4F4E-A41F-91FD2AF4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3E6BD-337A-4A1C-9E4C-003C14EE7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6318A-FD00-4E7A-A58F-83FF3D5B5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7189-6514-44B3-B91B-ACA26539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44EAA-0C4A-4D0B-9D78-3E16BD48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D3E29-61AE-441D-97CE-2CFB15A5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78BC8-6B7D-4D06-A1C1-0FFA99A6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41EA9-7B48-4D84-9435-AD54E031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498AA-8863-4C8F-8FEB-914A4A20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B7B46-64C8-4E68-8952-56AC1897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72608-8EC5-49AF-9561-B46D66EA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C2D1C-9C20-4A33-9557-4ABEC089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3545A-C840-4293-964B-5806601D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272F2-50B4-4B45-9C7A-9DE8682AB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CC30-BF96-4770-86CD-4D77D1622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36182-6881-4AEF-8AFE-52FCA5DC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20487-8AA9-4CD4-BDEB-8463DB3F9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E5C24-1935-4FEF-AD9B-C9ED7B39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8488A-18BA-4F63-BECB-30BA4525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E9C4E-4F71-451C-BC49-21D46015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E71DD-66A1-4AE2-8F82-71E87B43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D2AF41-A8BC-4876-8CF6-47C18A54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56E75-5C45-443D-B50C-C6909064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C567C-F43C-4B10-A615-7476CFE3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B8665-1F09-457D-AA2D-4DAC1DB8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42C9F-DB6B-4882-A513-CA66F280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CA738D-6B66-4AB3-B79A-C67C2C0D7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8BDB3E-E3BB-424D-905D-9E59BAAAA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8A2AE0-5221-44FD-8707-430EA99B2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2490D9-5214-46F9-81E9-951127A2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838B5E-F4FF-4C35-91A7-053D68C8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5BF446-1DFE-4EB2-9E54-4BB01357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6A1252-0FA1-4A4A-842B-0153F331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344E7F-2A57-4E7F-8906-1AE763A0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C7AB8D-680F-43BA-98B2-5D86FAAD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88F9CF-A530-4EB4-AB63-60514AB8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7CB04C-17D2-4AA3-9405-A47288E0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1E3CE-EE82-4B0F-9945-CFF655A8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BAF598-E55A-4CA6-A035-B3AA78F4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C5E45-1B9F-42D6-ADD4-55508B90C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971A0-7340-440C-B5F2-A43EEE78A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D4331-303F-44D9-8C2F-C5926DB4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C2316-F8B1-45E8-A6D8-11F049B7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FFBBF-0A20-4751-A03E-AC42493A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BBCEDE-1A20-4F08-B66E-27595BAC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366CD-BD00-424E-96F0-1606640B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495D5-0766-43B5-9E0B-3C114463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25AB4-12A4-46A4-9309-977215E3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4C69D-B449-4FC5-99DC-6F766BCF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4F938-C8F5-4D51-A3DE-CCDAB605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B371A-BD06-4A70-9268-E09DE1F0D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7C6240-2421-4AA6-84D1-AA910B97D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C6922-FD38-4868-974B-6CDDE0601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C67050-B6E2-4B6A-99DC-980A70FA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189F08-B9E5-420F-B629-471286A0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69A309-1BB4-465B-BABF-018C29D4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F9E480-8A31-4BEF-86AA-17FE8ED7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6CA28B-BEDF-4A8C-A178-0742022B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4BF729-53C8-4993-A29F-2F528204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639DBF-EA52-4136-9592-ED987421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30F501-65AD-4F31-B009-68DCF809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0B514-78E1-4BD9-B14E-6223F21A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F33913-6603-4AE0-BA85-408B72E01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7422FE-4357-488B-851A-E9302573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0C94F3-D56B-4E1F-81B6-8AC183E83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801743-22ED-4A7B-93F9-6F5A6AB0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0F6341-D7DE-4E93-B8DF-F0610B4E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A22041-3714-4909-8302-B230A28A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E51E63-46B2-405F-B1B9-AEDEA479B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5EAB5A-751D-4002-95BB-87D08E2C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88350E-7EA2-4F3A-817C-AF853355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C8315D-7195-425B-A1F9-1187393D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A01CFE-1AF2-4EE7-B0D8-CE3A8B94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17282C-1FB4-47F2-9AD6-1A6554EE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4F6D98-15C0-4E39-A062-1B935FF8F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97D6CC-89C4-445F-8DBE-8D5A10A01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2953B9-C067-4461-81EF-9539002F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71CB44-355F-4BE9-9C37-23CE1B11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15ED20-956E-4D53-8620-60250D24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CC9DFD-E68F-4A42-80D4-7EE2B18E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955C99-058B-44CE-ABD9-A4D6DA2A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0EE3E8-B3C9-447D-9401-08D74190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3EF400-1729-4A28-814F-3E641F7F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BD697A-0E4D-4E44-9979-64CC2D40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5DD3CD-2C73-4F3A-8C70-1F79FC69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C519F7-7434-4FDE-9BCA-0D0CCFB9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D1291F-7C0D-48A7-AFD6-447241902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1A2DF9-31E5-4DD5-8F35-F93737F14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E97EE1-E58B-47BF-A4D6-9A5184F7C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0B2D54-C724-4D89-BC56-6A8CE3A8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9DAAC2-198F-4F47-8F4C-F74E22D88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AF3BB0-D17E-4C30-904C-DA7D0E0C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C83C53-AA59-4F81-8BE5-C85FADAB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0391B4-1F64-4B15-A8B4-279C29D8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7FDC07-98A3-46B1-AAC8-02A725CC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95FF-5252-4D25-9282-395EF90F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EC5E55-D063-4196-BA1E-523844C7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B3603A-ADBA-453F-94D3-35281AB1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90E0B4-83AD-49C8-8227-885B2B76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4A7B49-77CB-480E-8440-DCBF32BE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C34C4B-DF82-4403-B283-68C0FEBC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8E6B7B-3523-46B5-A82D-006B1A1FA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55119E-1BE4-4C9E-BD6E-777ABFF7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402FD4-B94D-4F0A-BA30-37A44338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E9CA60-77DA-47C0-BCF1-1CB6378B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4A2512-5CBE-4DB8-9642-330A9CD5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C4069D-064A-4B4D-A68A-AE57849E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4AD2D5-9349-4D06-BB90-20FF30B3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4B9FD2-9F6E-4AA2-BF26-E9100DB9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095E5C-0A3E-4989-9F2B-401D13CB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6D5AB2-D822-4A81-8EF6-95FA6DB9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E2B0BC-F767-4095-9B07-93BFA79F7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353AA8-AD76-4326-B94D-E6A57F9EA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EFA4D3-3867-4524-811C-5209052E3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84F25F-6427-4574-990B-4610ADDA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CC5598-752E-4B65-B6B3-817D19CF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A46E87-C695-44A6-A78C-F34AAA08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3D6780-8C53-46D1-9EE3-53A75939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E9ACA4-FC87-43D8-9C6C-EA4C573C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984AD8-F8D3-471F-B3A9-541F9FC8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9206E9-944C-45D2-9AC3-D3254295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D12C67-37D0-4F7C-915E-244B073F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C18851-C2C4-464A-8678-2A030DD2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C8951B-CD45-4B16-8AE5-6DE797606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EB5BAD-F3B1-4C19-93A6-DE851B89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19BA35-32BD-41E6-84EB-6C3D8E582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2A155F-77C4-4C67-A36B-1A190803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AD1C5C-BA51-415B-9DA8-78E10CB2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3EE4D3-5823-491C-980D-A42DE9B9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47C1C9-CD1C-45F9-9DD1-8C5E73CB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4482E7-CB9A-4DFB-A3B2-BFCDF543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143A89-EF2D-4F3F-9F5F-00D04F3F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BA1D43-F7E8-445B-A117-AFA4C2E6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BF80B5-7EC3-4C21-BE23-782BF2ED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B05DCD-DF8F-4144-9F1E-4F912B02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F0A0F5-874A-431D-9BEA-87853DCE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88224D-BF19-4921-84DA-2E3C6B4B3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3FDCEB-3911-499C-B962-1BFD0338E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3869C3-6A65-4AD9-83C2-B543FF6E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C0E11E-BD66-4AB7-86A5-BD819567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B76F7F-64DB-4B3F-B8BB-2DD4E9A3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33C03F-8E1B-4357-8AC2-CA69DAE6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96ED1C-7A51-4071-8D0B-16E90173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C8C5B3-7DAD-426B-86F2-1301B3F4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CB7EDC-E595-4ED7-9355-2A012992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EBA92C-98F5-4CD7-A10E-D843DE72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713B84-0054-4CAD-BB01-C62F7C0E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001BA1-C215-4A38-8D7B-450AC01A9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DC1952-431E-4CA8-990D-315FEEC50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6D169E-9D72-45EF-A144-2D69D7445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EF9F87-7A97-4E46-AB1E-B79B9B6D3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168D44-03F4-4288-A2F1-BEB51AF6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7821B4-0F0E-4EB2-BACD-BA04A04C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8A95AF-88DE-4022-B1CC-A4880143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151817-E979-4D51-AAC7-76F54C9A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B4761D-04F3-45B3-B48D-9B55949B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CFB432-B071-4815-BA73-1B821616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20142F-4F18-49A7-AB29-40C3F5CB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6E3CF2-2C9D-497F-9839-67355457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6F04A3-CCCA-48AE-8952-88BD68523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1BCB1D-4612-4675-8A71-F9B4687D7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576F9E-C886-45B4-9024-ACBB8406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E1D78A-78B1-418E-A7CD-1F5343F6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B2276F-C4E4-402D-8684-6BD28E4E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A8C8CA-0AD5-46E5-9CB9-BA3E422B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AA1E15-EC4F-4203-8662-6F48CCB8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103118-E34A-4220-96B4-FECCDB8E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CAB579-E9F5-4CB3-9ECB-17C1A20E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5CE666-1066-4102-A9A3-D26100B7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27B193-FE08-461B-9C2A-B4C7D38A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CFA3A4-BE4F-47DE-A7DC-64E62E36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AE14DB-E256-4BF0-AB2F-090BAC888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E61576-8C41-4AAD-A208-2A9BE4194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C04144-514C-41AC-9507-F80183F6A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8E5A79-E31B-4B97-8DB0-DA6C8FA8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FAA6D5-74F8-4850-869B-B4869BED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2D93D5-A2B8-43C0-B22D-74AE54DB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085FB5-F2FD-49BB-804A-B3C14737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53EED3-4B25-4F66-94EC-FD8AF886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288439-2088-4656-B37F-76A475F7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B45DB9-2853-4838-8026-5D623884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6F02D3-982A-40D8-8182-96641454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ED675A-9E4F-4BC8-8DE5-0AAF73CB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5C3FD4-3518-48A1-9183-83A0A2904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EC75DA-A146-406E-8DAC-26A194761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3609-3CAD-47F8-9B1A-DBE3B27B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7D83-70B3-4E91-9E64-CBC5E16A0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0595-0CAE-4287-8985-3EB90BC2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0ACB-B02E-40E3-8643-60FCA5A6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3E52-399B-4C24-8307-840CBFA3B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1C0C-3253-40B1-8547-1953D96E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345A0-7221-4802-A6BD-1FAB249D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79CF-F119-40E4-BCED-4E866113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3AFD-09B2-401D-86D0-5BAC07DE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2E47-9F1B-406F-BBD1-60959C88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7929A-D43B-414B-92E3-4A467A9B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FF76-B54F-410E-BB00-9E8D984D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FF0F-5915-449A-B2E6-DD53E0F9B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D30C-93B7-488E-BDB0-D611BB7C2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434FD-F470-4BCC-84D9-53348ECEC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7293-CCEE-4B68-AFEF-DF95DB98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C9AA4-83E6-459C-8CC8-F251EDC8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142BE-A106-4BB9-8BCE-8393D597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780C0-6E18-4C0E-B425-72D2FEFE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84C01-4A90-41FC-BB49-BC54D441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527EF-2B72-43B1-91C7-DB557C16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96CA8-8916-4F1C-ADD0-3E482111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C682E-CB5D-4606-B7C5-3BA6EB35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EF743-1387-4E2A-B07B-FAD7A87E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676CD-6860-4D3B-8810-706DEB40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1ABE4-D040-400C-8D27-0F03ACC51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51E0-1EA5-4EE2-B2FA-EF9FFC75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68A67-2557-47F9-ADD8-A52DA8958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6698E-6D7F-478F-838F-CD9F3B911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888DB-C8E5-49FA-93CF-3682E1DD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A3776-EE59-4479-A9CA-7793329A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7ABF5-9376-4899-97B7-11E600F5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C6285-8AC0-4C14-9629-6578D31A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9F866-73CD-4146-B48D-A7790900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7575C-BC2D-4F3C-927A-96C2FB4F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9B3E9-4A71-42EF-9674-CBCF3A1B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C7BB3-94F4-46FC-8BA6-EF01EEBC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0043-A120-4485-858D-17148AC7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A4BD7-AC82-4C29-9BF4-4FF36726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B8A54-213D-4C30-8F0A-95D4B609E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EB3F2-84DA-41EC-B2A3-730F349DB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FBA25-4513-491C-AE99-C352FEFB3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BA71E-2183-4FD9-AC2D-F84481A6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9515C-4419-430D-B31A-C15BD515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A2ADB-2B81-4D15-AA53-315E922B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552E0-6F06-43D0-80D8-2E86DFA3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87AC8-56E5-4E8E-9BD2-2A76F056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C4B55-4A8B-445D-9192-BCD27818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C13F-6889-4805-B7E3-41831AEA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AB289-1F29-4011-B7DF-403DDAA5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4A4B4-84BE-4931-81A4-884ED3D5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5D62F-6837-44A5-AB9F-83B43A1E6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D6C05-93CA-4BB6-AFEE-C351F418A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951B3-69AE-46D2-850F-275A5551B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AE5BA-88E0-4A1D-BD91-0CF28D15F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C693D-F27C-48A9-B7E4-3F3FD596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BEE6E-3171-4A9D-BE03-E5C1837C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86A50-2475-437C-A9B5-05D15771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BB5E3-23C3-4CFA-BA08-2C395B35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65F8-288E-4497-A845-0C9F90D1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E914B-2BEB-47E3-9776-207EC8E4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C855A-5068-4C55-BC2E-0F9C21F3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CC9C4-7EFB-48C4-B646-6D3C7421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CAC08-CD21-4D96-9EA0-E6CB57A2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1BDF3-BFE5-4AFF-A6AE-716231B9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7D54B-97EB-40C3-9740-C6EC9131C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C5244-9005-4932-AE37-63AB91131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6D341-3CBB-49C2-9192-AF9E462AB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E521B-0A33-4D54-B224-02394A24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7FE5E-7890-42FE-BA11-F220B5AB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50000">
                  <a:srgbClr val="ffff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CF00-7267-4F3D-90F0-8CFC2F2A4E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66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50000">
                  <a:srgbClr val="ffff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"/>
              </a:rPr>
              <a:t>iRespond Question Maste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.) Response 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.) Response 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.) Response 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.) Response 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.) Response 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 Complete 100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:3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7035-76E4-4660-AD8E-32B5F8B570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517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50000">
                  <a:srgbClr val="ffff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"/>
              </a:rPr>
              <a:t>iRespond Question Maste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.) Response 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.) Response 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.) Response 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.) Response 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.) Response 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 Complete 100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:3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E475-F662-4075-82F3-BE3C40664A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56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50000">
                  <a:srgbClr val="ffff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"/>
              </a:rPr>
              <a:t>iRespond Question Maste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.) Response 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.) Response 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.) Response 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.) Response 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.) Response 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 Complete 100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:3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B495-FCC4-4154-AC76-A3AE81D432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619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50000">
                  <a:srgbClr val="ffff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"/>
              </a:rPr>
              <a:t>iRespond Question Maste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.) Response 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.) Response 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.) Response 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.) Response 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.) Response 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 Complete 100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:3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732A-5292-4F52-9036-4D7DB53AAC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9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670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50000">
                  <a:srgbClr val="ffff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"/>
              </a:rPr>
              <a:t>iRespond Question Maste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.) Response 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.) Response 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.) Response 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.) Response 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.) Response 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 Complete 100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:3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6FFA-58F3-47E9-8751-46FE9165E4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72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50000">
                  <a:srgbClr val="ffff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espond Grap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726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729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3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735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739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*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*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745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752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PlaceHolder 1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8455-A11E-4921-8AE3-1F209D2B1E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5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796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50000">
                  <a:srgbClr val="ffff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9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espond Grap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01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804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3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810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814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*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*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820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827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PlaceHolder 1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4E86-4133-4B7D-9FD3-C98B1603C3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87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50000">
                  <a:srgbClr val="ffff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4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espond Grap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76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879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3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885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889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*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*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895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902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PlaceHolder 1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79F5-736C-42A2-B856-66C5B2BED3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5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46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50000">
                  <a:srgbClr val="ffff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9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espond Grap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0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951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54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3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9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60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964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*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*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9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970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977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1" name="PlaceHolder 1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CB63-F420-4FBC-89AB-A81D7BBAF0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02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50000">
                  <a:srgbClr val="ffff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4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espond Grap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026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8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029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3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035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39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*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*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45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052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6" name="PlaceHolder 1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9B4C-6E3C-4DD9-AF13-E33148E07E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6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50000">
                  <a:srgbClr val="ffff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"/>
              </a:rPr>
              <a:t>iRespond Question Maste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.) Response 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.) Response 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.) Response 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.) Response 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.) Response 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 Complete 100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:3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5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096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50000">
                  <a:srgbClr val="ffff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9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espond Grap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0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101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3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104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3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9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110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14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*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*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9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20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27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1" name="PlaceHolder 1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45FB-ABFC-454C-9A30-127584CAF7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17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50000">
                  <a:srgbClr val="ffff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4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espond Grap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5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176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8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179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3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4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185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8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89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*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*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4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95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1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202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6" name="PlaceHolder 1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4A4C-FE1F-4387-91A2-AA32524F0F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5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246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50000">
                  <a:srgbClr val="ffff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9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espond Grap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0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251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254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3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9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260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264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*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*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9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270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6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277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1" name="PlaceHolder 1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D477-DCE8-4D26-AB6E-8BF9448DA3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32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50000">
                  <a:srgbClr val="ffff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4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espond Grap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5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326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329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3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4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335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8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339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*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*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4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345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1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352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6" name="PlaceHolder 1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1473-C70D-4CE6-BFA4-59FD285E6E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5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396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50000">
                  <a:srgbClr val="ffff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9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espond Grap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0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401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3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404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3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9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410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3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414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*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*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9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420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6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427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1" name="PlaceHolder 1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9A1B-69D9-4B36-B642-D634AA208A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4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50000">
                  <a:srgbClr val="ffff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espond Grap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99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02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33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08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2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*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*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8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25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3"/>
          <p:cNvSpPr/>
          <p:nvPr/>
        </p:nvSpPr>
        <p:spPr>
          <a:xfrm>
            <a:off x="685800" y="2057400"/>
            <a:ext cx="7391520" cy="335268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609480" y="914400"/>
            <a:ext cx="746784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0" y="1371600"/>
            <a:ext cx="8991720" cy="1828800"/>
          </a:xfrm>
          <a:custGeom>
            <a:avLst/>
            <a:gdLst>
              <a:gd name="textAreaLeft" fmla="*/ 0 w 8991720"/>
              <a:gd name="textAreaRight" fmla="*/ 4496760 w 8991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4917" h="1000">
                <a:moveTo>
                  <a:pt x="0" y="0"/>
                </a:moveTo>
                <a:lnTo>
                  <a:pt x="4416" y="0"/>
                </a:lnTo>
                <a:cubicBezTo>
                  <a:pt x="4693" y="0"/>
                  <a:pt x="4917" y="223"/>
                  <a:pt x="4917" y="500"/>
                </a:cubicBezTo>
                <a:cubicBezTo>
                  <a:pt x="4917" y="776"/>
                  <a:pt x="4693" y="999"/>
                  <a:pt x="4417" y="1000"/>
                </a:cubicBezTo>
                <a:lnTo>
                  <a:pt x="0" y="100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c9900"/>
              </a:gs>
              <a:gs pos="50000">
                <a:srgbClr val="cccc00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"/>
          <p:cNvSpPr/>
          <p:nvPr/>
        </p:nvSpPr>
        <p:spPr>
          <a:xfrm>
            <a:off x="0" y="3048120"/>
            <a:ext cx="83059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E3BE-210A-4745-80D5-79980B7198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1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50000">
                  <a:srgbClr val="ffff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"/>
              </a:rPr>
              <a:t>iRespond Question Maste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.) Response 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.) Response 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.) Response 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.) Response 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.) Response 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 Complete 100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:3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75EF-9707-443A-B0B9-D3CC312AAA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6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50000">
                  <a:srgbClr val="ffff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"/>
              </a:rPr>
              <a:t>iRespond Question Maste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.) Response 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.) Response 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.) Response 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.) Response 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.) Response 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 Complete 100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:3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035E-3E03-4894-913A-3193632E28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1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50000">
                  <a:srgbClr val="ffff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"/>
              </a:rPr>
              <a:t>iRespond Question Maste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.) Response 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.) Response 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.) Response 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.) Response 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.) Response 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 Complete 100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:3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4AB7-B673-43F1-97BB-B28B3E36B2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64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50000">
                  <a:srgbClr val="ffff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"/>
              </a:rPr>
              <a:t>iRespond Question Maste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.) Response 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.) Response 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.) Response 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.) Response 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.) Response 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 Complete 100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:3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CF94-782F-4BC9-A6EE-9FB8A5B266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15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50000">
                  <a:srgbClr val="ffff00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"/>
              </a:rPr>
              <a:t>iRespond Question Maste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.) Response 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B.) Response 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.) Response 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.) Response 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.) Response 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 Complete 100%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0:3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DF96-C912-4359-94CF-ABF9ED14AD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oolesthing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howdoulik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5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1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da-wa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" Target="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0.xm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seethis.wav"/><Relationship Id="rId4" Type="http://schemas.openxmlformats.org/officeDocument/2006/relationships/audio" Target="../media/phone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33.xml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" Target=""/><Relationship Id="rId3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slide36.xm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bounce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mazing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oops.wav"/><Relationship Id="rId2" Type="http://schemas.openxmlformats.org/officeDocument/2006/relationships/audio" Target="../media/brain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blewmind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lwayssomething.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letsse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000066"/>
                </a:solidFill>
                <a:latin typeface="Arial"/>
              </a:rPr>
              <a:t>Subject-Verb Agreement</a:t>
            </a:r>
            <a:endParaRPr b="0" lang="en-US" sz="6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Project LA Activit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72" name="Picture 7" descr="homework5"/>
          <p:cNvPicPr/>
          <p:nvPr/>
        </p:nvPicPr>
        <p:blipFill>
          <a:blip r:embed="rId1"/>
          <a:stretch/>
        </p:blipFill>
        <p:spPr>
          <a:xfrm>
            <a:off x="5580000" y="3200400"/>
            <a:ext cx="209700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  <p:sndAc>
      <p:stSnd>
        <p:snd r:embed="rId2" name="drumrol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These create problems:</a:t>
            </a: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words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er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er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re never subjects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8" name="Text Box 4"/>
          <p:cNvSpPr/>
          <p:nvPr/>
        </p:nvSpPr>
        <p:spPr>
          <a:xfrm>
            <a:off x="457200" y="2819520"/>
            <a:ext cx="8001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r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r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per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you gave m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r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y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nsw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Oval 5"/>
          <p:cNvSpPr/>
          <p:nvPr/>
        </p:nvSpPr>
        <p:spPr>
          <a:xfrm>
            <a:off x="5029200" y="4038480"/>
            <a:ext cx="3124080" cy="1371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e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bjec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1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8" dur="500"/>
                                        <p:tgtEl>
                                          <p:spTgt spid="1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olesth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These create problems:</a:t>
            </a: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bs in the present tense for third-person, singular subjects (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h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he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i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anything those words can stand for) hav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endings. Other verbs do not ad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ending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2" name="Text Box 4"/>
          <p:cNvSpPr/>
          <p:nvPr/>
        </p:nvSpPr>
        <p:spPr>
          <a:xfrm>
            <a:off x="685800" y="3809880"/>
            <a:ext cx="8001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sk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for help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he ask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for help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ey ask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for help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Oval 5"/>
          <p:cNvSpPr/>
          <p:nvPr/>
        </p:nvSpPr>
        <p:spPr>
          <a:xfrm>
            <a:off x="5029200" y="4038480"/>
            <a:ext cx="3124080" cy="1371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cky subjec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nou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owdouli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Let’s Try These!</a:t>
            </a: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irections:  If the subject and verb are in agreement click "correct." If they are not, click the word that is the correct answer.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Ready?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16" name="Picture 4" descr="studentprepared"/>
          <p:cNvPicPr/>
          <p:nvPr/>
        </p:nvPicPr>
        <p:blipFill>
          <a:blip r:embed="rId1"/>
          <a:stretch/>
        </p:blipFill>
        <p:spPr>
          <a:xfrm>
            <a:off x="6019920" y="43434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  <p:sndAc>
      <p:stSnd>
        <p:snd r:embed="rId2" name="drumroll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66"/>
                </a:solidFill>
                <a:latin typeface="Arial"/>
              </a:rPr>
              <a:t>Bill am going to the store. </a:t>
            </a:r>
            <a:endParaRPr b="0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66"/>
                </a:solidFill>
                <a:uFillTx/>
                <a:latin typeface="Arial"/>
                <a:hlinkClick r:id="rId1" action="ppaction://hlinksldjump"/>
              </a:rPr>
              <a:t>correc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66"/>
                </a:solidFill>
                <a:uFillTx/>
                <a:latin typeface="Arial"/>
                <a:hlinkClick r:id="rId2" action="ppaction://hlinksldjump"/>
              </a:rPr>
              <a:t>i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wa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wer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o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19" name="Picture 4" descr="store"/>
          <p:cNvPicPr/>
          <p:nvPr/>
        </p:nvPicPr>
        <p:blipFill>
          <a:blip r:embed="rId3"/>
          <a:stretch/>
        </p:blipFill>
        <p:spPr>
          <a:xfrm>
            <a:off x="4343400" y="2286000"/>
            <a:ext cx="345276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66"/>
                </a:solidFill>
                <a:latin typeface="Arial"/>
              </a:rPr>
              <a:t>Oh No!</a:t>
            </a:r>
            <a:endParaRPr b="0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21" name="Picture 7" descr="shocked"/>
          <p:cNvPicPr/>
          <p:nvPr/>
        </p:nvPicPr>
        <p:blipFill>
          <a:blip r:embed="rId1"/>
          <a:stretch/>
        </p:blipFill>
        <p:spPr>
          <a:xfrm>
            <a:off x="6835680" y="3581280"/>
            <a:ext cx="2003400" cy="3124440"/>
          </a:xfrm>
          <a:prstGeom prst="rect">
            <a:avLst/>
          </a:prstGeom>
          <a:ln w="0">
            <a:noFill/>
          </a:ln>
        </p:spPr>
      </p:pic>
      <p:sp>
        <p:nvSpPr>
          <p:cNvPr id="1522" name="AutoShape 9"/>
          <p:cNvSpPr/>
          <p:nvPr/>
        </p:nvSpPr>
        <p:spPr>
          <a:xfrm>
            <a:off x="3276720" y="2209680"/>
            <a:ext cx="3962160" cy="2590920"/>
          </a:xfrm>
          <a:prstGeom prst="wedgeEllipseCallout">
            <a:avLst>
              <a:gd name="adj1" fmla="val 38981"/>
              <a:gd name="adj2" fmla="val 656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subject and verb are not in agreeme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AutoShape 10">
            <a:hlinkClick r:id="" action="ppaction://hlinkshowjump?jump=previousslide"/>
          </p:cNvPr>
          <p:cNvSpPr/>
          <p:nvPr/>
        </p:nvSpPr>
        <p:spPr>
          <a:xfrm>
            <a:off x="2895480" y="5486400"/>
            <a:ext cx="3124440" cy="1143000"/>
          </a:xfrm>
          <a:custGeom>
            <a:avLst/>
            <a:gdLst>
              <a:gd name="textAreaLeft" fmla="*/ 73800 w 3124440"/>
              <a:gd name="textAreaRight" fmla="*/ 3050640 w 31244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9033" h="21600">
                <a:moveTo>
                  <a:pt x="0" y="0"/>
                </a:moveTo>
                <a:lnTo>
                  <a:pt x="59033" y="0"/>
                </a:lnTo>
                <a:lnTo>
                  <a:pt x="59033" y="21600"/>
                </a:lnTo>
                <a:lnTo>
                  <a:pt x="0" y="21600"/>
                </a:lnTo>
                <a:close/>
              </a:path>
              <a:path fill="lightenLess" w="59033" h="21600">
                <a:moveTo>
                  <a:pt x="0" y="0"/>
                </a:moveTo>
                <a:lnTo>
                  <a:pt x="59033" y="0"/>
                </a:lnTo>
                <a:lnTo>
                  <a:pt x="57633" y="1400"/>
                </a:lnTo>
                <a:lnTo>
                  <a:pt x="1400" y="1400"/>
                </a:lnTo>
                <a:close/>
              </a:path>
              <a:path fill="darken" w="59033" h="21600">
                <a:moveTo>
                  <a:pt x="59033" y="0"/>
                </a:moveTo>
                <a:lnTo>
                  <a:pt x="59033" y="21600"/>
                </a:lnTo>
                <a:lnTo>
                  <a:pt x="57633" y="20200"/>
                </a:lnTo>
                <a:lnTo>
                  <a:pt x="57633" y="1400"/>
                </a:lnTo>
                <a:close/>
              </a:path>
              <a:path fill="darkenLess" w="59033" h="21600">
                <a:moveTo>
                  <a:pt x="59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33" y="20200"/>
                </a:lnTo>
                <a:close/>
              </a:path>
              <a:path fill="lighten" w="59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Click HERE t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try agai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66"/>
                </a:solidFill>
                <a:latin typeface="Arial"/>
              </a:rPr>
              <a:t>CORRECT!</a:t>
            </a:r>
            <a:endParaRPr b="0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25" name="Picture 6" descr="happygirl2"/>
          <p:cNvPicPr/>
          <p:nvPr/>
        </p:nvPicPr>
        <p:blipFill>
          <a:blip r:embed="rId1"/>
          <a:stretch/>
        </p:blipFill>
        <p:spPr>
          <a:xfrm>
            <a:off x="6858000" y="4419720"/>
            <a:ext cx="1990800" cy="2076480"/>
          </a:xfrm>
          <a:prstGeom prst="rect">
            <a:avLst/>
          </a:prstGeom>
          <a:ln w="0">
            <a:noFill/>
          </a:ln>
        </p:spPr>
      </p:pic>
      <p:sp>
        <p:nvSpPr>
          <p:cNvPr id="1526" name="AutoShape 7"/>
          <p:cNvSpPr/>
          <p:nvPr/>
        </p:nvSpPr>
        <p:spPr>
          <a:xfrm>
            <a:off x="2895480" y="2362320"/>
            <a:ext cx="3962520" cy="2590560"/>
          </a:xfrm>
          <a:prstGeom prst="wedgeEllipseCallout">
            <a:avLst>
              <a:gd name="adj1" fmla="val 46032"/>
              <a:gd name="adj2" fmla="val 5043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subject and verb are in agreeme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AutoShape 9">
            <a:hlinkClick r:id="" action="ppaction://hlinkshowjump?jump=nextslide"/>
          </p:cNvPr>
          <p:cNvSpPr/>
          <p:nvPr/>
        </p:nvSpPr>
        <p:spPr>
          <a:xfrm>
            <a:off x="2895480" y="5486400"/>
            <a:ext cx="3124440" cy="1143000"/>
          </a:xfrm>
          <a:custGeom>
            <a:avLst/>
            <a:gdLst>
              <a:gd name="textAreaLeft" fmla="*/ 73800 w 3124440"/>
              <a:gd name="textAreaRight" fmla="*/ 3050640 w 31244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9033" h="21600">
                <a:moveTo>
                  <a:pt x="0" y="0"/>
                </a:moveTo>
                <a:lnTo>
                  <a:pt x="59033" y="0"/>
                </a:lnTo>
                <a:lnTo>
                  <a:pt x="59033" y="21600"/>
                </a:lnTo>
                <a:lnTo>
                  <a:pt x="0" y="21600"/>
                </a:lnTo>
                <a:close/>
              </a:path>
              <a:path fill="lightenLess" w="59033" h="21600">
                <a:moveTo>
                  <a:pt x="0" y="0"/>
                </a:moveTo>
                <a:lnTo>
                  <a:pt x="59033" y="0"/>
                </a:lnTo>
                <a:lnTo>
                  <a:pt x="57633" y="1400"/>
                </a:lnTo>
                <a:lnTo>
                  <a:pt x="1400" y="1400"/>
                </a:lnTo>
                <a:close/>
              </a:path>
              <a:path fill="darken" w="59033" h="21600">
                <a:moveTo>
                  <a:pt x="59033" y="0"/>
                </a:moveTo>
                <a:lnTo>
                  <a:pt x="59033" y="21600"/>
                </a:lnTo>
                <a:lnTo>
                  <a:pt x="57633" y="20200"/>
                </a:lnTo>
                <a:lnTo>
                  <a:pt x="57633" y="1400"/>
                </a:lnTo>
                <a:close/>
              </a:path>
              <a:path fill="darkenLess" w="59033" h="21600">
                <a:moveTo>
                  <a:pt x="59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33" y="20200"/>
                </a:lnTo>
                <a:close/>
              </a:path>
              <a:path fill="lighten" w="59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6666"/>
                </a:solidFill>
                <a:uFillTx/>
                <a:latin typeface="Arial"/>
                <a:hlinkClick r:id="rId2" action="ppaction://hlinksldjump"/>
              </a:rPr>
              <a:t>Click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HERE t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6666"/>
                </a:solidFill>
                <a:uFillTx/>
                <a:latin typeface="Arial"/>
                <a:hlinkClick r:id="rId3" action="ppaction://hlinksldjump"/>
              </a:rPr>
              <a:t>mov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forwar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339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The teachers are going to the movie. </a:t>
            </a:r>
            <a:endParaRPr b="0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66"/>
                </a:solidFill>
                <a:uFillTx/>
                <a:latin typeface="Arial"/>
                <a:hlinkClick r:id="rId1" action="ppaction://hlinksldjump"/>
              </a:rPr>
              <a:t>correc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m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i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o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wa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30" name="Picture 4" descr="movie"/>
          <p:cNvPicPr/>
          <p:nvPr/>
        </p:nvPicPr>
        <p:blipFill>
          <a:blip r:embed="rId2"/>
          <a:stretch/>
        </p:blipFill>
        <p:spPr>
          <a:xfrm>
            <a:off x="3124080" y="2590920"/>
            <a:ext cx="52578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66"/>
                </a:solidFill>
                <a:latin typeface="Arial"/>
              </a:rPr>
              <a:t>Oh No!</a:t>
            </a:r>
            <a:endParaRPr b="0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32" name="Picture 3" descr="shocked"/>
          <p:cNvPicPr/>
          <p:nvPr/>
        </p:nvPicPr>
        <p:blipFill>
          <a:blip r:embed="rId1"/>
          <a:stretch/>
        </p:blipFill>
        <p:spPr>
          <a:xfrm>
            <a:off x="6835680" y="3581280"/>
            <a:ext cx="2003400" cy="3124440"/>
          </a:xfrm>
          <a:prstGeom prst="rect">
            <a:avLst/>
          </a:prstGeom>
          <a:ln w="0">
            <a:noFill/>
          </a:ln>
        </p:spPr>
      </p:pic>
      <p:sp>
        <p:nvSpPr>
          <p:cNvPr id="1533" name="AutoShape 4"/>
          <p:cNvSpPr/>
          <p:nvPr/>
        </p:nvSpPr>
        <p:spPr>
          <a:xfrm>
            <a:off x="3276720" y="2209680"/>
            <a:ext cx="3962160" cy="2590920"/>
          </a:xfrm>
          <a:prstGeom prst="wedgeEllipseCallout">
            <a:avLst>
              <a:gd name="adj1" fmla="val 38981"/>
              <a:gd name="adj2" fmla="val 656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subject and verb are not in agreeme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AutoShape 5">
            <a:hlinkClick r:id="" action="ppaction://hlinkshowjump?jump=previousslide"/>
          </p:cNvPr>
          <p:cNvSpPr/>
          <p:nvPr/>
        </p:nvSpPr>
        <p:spPr>
          <a:xfrm>
            <a:off x="2895480" y="5486400"/>
            <a:ext cx="3124440" cy="1143000"/>
          </a:xfrm>
          <a:custGeom>
            <a:avLst/>
            <a:gdLst>
              <a:gd name="textAreaLeft" fmla="*/ 73800 w 3124440"/>
              <a:gd name="textAreaRight" fmla="*/ 3050640 w 31244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9033" h="21600">
                <a:moveTo>
                  <a:pt x="0" y="0"/>
                </a:moveTo>
                <a:lnTo>
                  <a:pt x="59033" y="0"/>
                </a:lnTo>
                <a:lnTo>
                  <a:pt x="59033" y="21600"/>
                </a:lnTo>
                <a:lnTo>
                  <a:pt x="0" y="21600"/>
                </a:lnTo>
                <a:close/>
              </a:path>
              <a:path fill="lightenLess" w="59033" h="21600">
                <a:moveTo>
                  <a:pt x="0" y="0"/>
                </a:moveTo>
                <a:lnTo>
                  <a:pt x="59033" y="0"/>
                </a:lnTo>
                <a:lnTo>
                  <a:pt x="57633" y="1400"/>
                </a:lnTo>
                <a:lnTo>
                  <a:pt x="1400" y="1400"/>
                </a:lnTo>
                <a:close/>
              </a:path>
              <a:path fill="darken" w="59033" h="21600">
                <a:moveTo>
                  <a:pt x="59033" y="0"/>
                </a:moveTo>
                <a:lnTo>
                  <a:pt x="59033" y="21600"/>
                </a:lnTo>
                <a:lnTo>
                  <a:pt x="57633" y="20200"/>
                </a:lnTo>
                <a:lnTo>
                  <a:pt x="57633" y="1400"/>
                </a:lnTo>
                <a:close/>
              </a:path>
              <a:path fill="darkenLess" w="59033" h="21600">
                <a:moveTo>
                  <a:pt x="59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33" y="20200"/>
                </a:lnTo>
                <a:close/>
              </a:path>
              <a:path fill="lighten" w="59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Click HERE t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try agai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66"/>
                </a:solidFill>
                <a:latin typeface="Arial"/>
              </a:rPr>
              <a:t>CORRECT!</a:t>
            </a:r>
            <a:endParaRPr b="0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36" name="Picture 3" descr="happygirl2"/>
          <p:cNvPicPr/>
          <p:nvPr/>
        </p:nvPicPr>
        <p:blipFill>
          <a:blip r:embed="rId1"/>
          <a:stretch/>
        </p:blipFill>
        <p:spPr>
          <a:xfrm>
            <a:off x="6858000" y="4419720"/>
            <a:ext cx="1990800" cy="2076480"/>
          </a:xfrm>
          <a:prstGeom prst="rect">
            <a:avLst/>
          </a:prstGeom>
          <a:ln w="0">
            <a:noFill/>
          </a:ln>
        </p:spPr>
      </p:pic>
      <p:sp>
        <p:nvSpPr>
          <p:cNvPr id="1537" name="AutoShape 4"/>
          <p:cNvSpPr/>
          <p:nvPr/>
        </p:nvSpPr>
        <p:spPr>
          <a:xfrm>
            <a:off x="2895480" y="2362320"/>
            <a:ext cx="3962520" cy="2590560"/>
          </a:xfrm>
          <a:prstGeom prst="wedgeEllipseCallout">
            <a:avLst>
              <a:gd name="adj1" fmla="val 46032"/>
              <a:gd name="adj2" fmla="val 5043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subject and verb are in agreeme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AutoShape 6">
            <a:hlinkClick r:id="" action="ppaction://hlinkshowjump?jump=nextslide"/>
          </p:cNvPr>
          <p:cNvSpPr/>
          <p:nvPr/>
        </p:nvSpPr>
        <p:spPr>
          <a:xfrm>
            <a:off x="2895480" y="5486400"/>
            <a:ext cx="3124440" cy="1143000"/>
          </a:xfrm>
          <a:custGeom>
            <a:avLst/>
            <a:gdLst>
              <a:gd name="textAreaLeft" fmla="*/ 73800 w 3124440"/>
              <a:gd name="textAreaRight" fmla="*/ 3050640 w 31244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9033" h="21600">
                <a:moveTo>
                  <a:pt x="0" y="0"/>
                </a:moveTo>
                <a:lnTo>
                  <a:pt x="59033" y="0"/>
                </a:lnTo>
                <a:lnTo>
                  <a:pt x="59033" y="21600"/>
                </a:lnTo>
                <a:lnTo>
                  <a:pt x="0" y="21600"/>
                </a:lnTo>
                <a:close/>
              </a:path>
              <a:path fill="lightenLess" w="59033" h="21600">
                <a:moveTo>
                  <a:pt x="0" y="0"/>
                </a:moveTo>
                <a:lnTo>
                  <a:pt x="59033" y="0"/>
                </a:lnTo>
                <a:lnTo>
                  <a:pt x="57633" y="1400"/>
                </a:lnTo>
                <a:lnTo>
                  <a:pt x="1400" y="1400"/>
                </a:lnTo>
                <a:close/>
              </a:path>
              <a:path fill="darken" w="59033" h="21600">
                <a:moveTo>
                  <a:pt x="59033" y="0"/>
                </a:moveTo>
                <a:lnTo>
                  <a:pt x="59033" y="21600"/>
                </a:lnTo>
                <a:lnTo>
                  <a:pt x="57633" y="20200"/>
                </a:lnTo>
                <a:lnTo>
                  <a:pt x="57633" y="1400"/>
                </a:lnTo>
                <a:close/>
              </a:path>
              <a:path fill="darkenLess" w="59033" h="21600">
                <a:moveTo>
                  <a:pt x="59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33" y="20200"/>
                </a:lnTo>
                <a:close/>
              </a:path>
              <a:path fill="lighten" w="59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6666"/>
                </a:solidFill>
                <a:uFillTx/>
                <a:latin typeface="Arial"/>
                <a:hlinkClick r:id="rId2" action="ppaction://hlinksldjump"/>
              </a:rPr>
              <a:t>Click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HERE t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ve </a:t>
            </a:r>
            <a:r>
              <a:rPr b="1" lang="en-US" sz="3200" spc="-1" strike="noStrike" u="sng">
                <a:solidFill>
                  <a:srgbClr val="996666"/>
                </a:solidFill>
                <a:uFillTx/>
                <a:latin typeface="Arial"/>
                <a:hlinkClick r:id="rId3" action="ppaction://hlinksldjump"/>
              </a:rPr>
              <a:t>forward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This are going to be the easiest quiz of all time.</a:t>
            </a: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66"/>
                </a:solidFill>
                <a:uFillTx/>
                <a:latin typeface="Arial"/>
                <a:hlinkClick r:id="rId1" action="ppaction://hlinksldjump"/>
              </a:rPr>
              <a:t>correc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66"/>
                </a:solidFill>
                <a:uFillTx/>
                <a:latin typeface="Arial"/>
                <a:hlinkClick r:id="rId2" action="ppaction://hlinksldjump"/>
              </a:rPr>
              <a:t>i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m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wa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wer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41" name="Picture 4" descr="quietexam"/>
          <p:cNvPicPr/>
          <p:nvPr/>
        </p:nvPicPr>
        <p:blipFill>
          <a:blip r:embed="rId3"/>
          <a:stretch/>
        </p:blipFill>
        <p:spPr>
          <a:xfrm>
            <a:off x="3657600" y="1523880"/>
            <a:ext cx="4332240" cy="44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66"/>
                </a:solidFill>
                <a:latin typeface="Arial"/>
              </a:rPr>
              <a:t>Basic Rule</a:t>
            </a: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Singular subjects</a:t>
            </a:r>
            <a:r>
              <a:rPr b="0" lang="en-US" sz="4800" spc="-1" strike="noStrike">
                <a:solidFill>
                  <a:srgbClr val="000066"/>
                </a:solidFill>
                <a:latin typeface="Arial"/>
              </a:rPr>
              <a:t> need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singular verbs</a:t>
            </a:r>
            <a:r>
              <a:rPr b="0" lang="en-US" sz="4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lural subjects</a:t>
            </a:r>
            <a:r>
              <a:rPr b="0" lang="en-US" sz="4800" spc="-1" strike="noStrike">
                <a:solidFill>
                  <a:srgbClr val="000066"/>
                </a:solidFill>
                <a:latin typeface="Arial"/>
              </a:rPr>
              <a:t> need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lural verbs</a:t>
            </a:r>
            <a:r>
              <a:rPr b="0" lang="en-US" sz="48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75" name="Picture 4" descr="iknewthat"/>
          <p:cNvPicPr/>
          <p:nvPr/>
        </p:nvPicPr>
        <p:blipFill>
          <a:blip r:embed="rId1"/>
          <a:stretch/>
        </p:blipFill>
        <p:spPr>
          <a:xfrm>
            <a:off x="3886200" y="4724280"/>
            <a:ext cx="1981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a-w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66"/>
                </a:solidFill>
                <a:latin typeface="Arial"/>
              </a:rPr>
              <a:t>Oh No!</a:t>
            </a:r>
            <a:endParaRPr b="0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43" name="Picture 3" descr="shocked"/>
          <p:cNvPicPr/>
          <p:nvPr/>
        </p:nvPicPr>
        <p:blipFill>
          <a:blip r:embed="rId1"/>
          <a:stretch/>
        </p:blipFill>
        <p:spPr>
          <a:xfrm>
            <a:off x="6835680" y="3581280"/>
            <a:ext cx="2003400" cy="3124440"/>
          </a:xfrm>
          <a:prstGeom prst="rect">
            <a:avLst/>
          </a:prstGeom>
          <a:ln w="0">
            <a:noFill/>
          </a:ln>
        </p:spPr>
      </p:pic>
      <p:sp>
        <p:nvSpPr>
          <p:cNvPr id="1544" name="AutoShape 4"/>
          <p:cNvSpPr/>
          <p:nvPr/>
        </p:nvSpPr>
        <p:spPr>
          <a:xfrm>
            <a:off x="3276720" y="2209680"/>
            <a:ext cx="3962160" cy="2590920"/>
          </a:xfrm>
          <a:prstGeom prst="wedgeEllipseCallout">
            <a:avLst>
              <a:gd name="adj1" fmla="val 38981"/>
              <a:gd name="adj2" fmla="val 656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subject and verb are not in agreeme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AutoShape 5">
            <a:hlinkClick r:id="" action="ppaction://hlinkshowjump?jump=previousslide"/>
          </p:cNvPr>
          <p:cNvSpPr/>
          <p:nvPr/>
        </p:nvSpPr>
        <p:spPr>
          <a:xfrm>
            <a:off x="2895480" y="5486400"/>
            <a:ext cx="3124440" cy="1143000"/>
          </a:xfrm>
          <a:custGeom>
            <a:avLst/>
            <a:gdLst>
              <a:gd name="textAreaLeft" fmla="*/ 73800 w 3124440"/>
              <a:gd name="textAreaRight" fmla="*/ 3050640 w 31244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9033" h="21600">
                <a:moveTo>
                  <a:pt x="0" y="0"/>
                </a:moveTo>
                <a:lnTo>
                  <a:pt x="59033" y="0"/>
                </a:lnTo>
                <a:lnTo>
                  <a:pt x="59033" y="21600"/>
                </a:lnTo>
                <a:lnTo>
                  <a:pt x="0" y="21600"/>
                </a:lnTo>
                <a:close/>
              </a:path>
              <a:path fill="lightenLess" w="59033" h="21600">
                <a:moveTo>
                  <a:pt x="0" y="0"/>
                </a:moveTo>
                <a:lnTo>
                  <a:pt x="59033" y="0"/>
                </a:lnTo>
                <a:lnTo>
                  <a:pt x="57633" y="1400"/>
                </a:lnTo>
                <a:lnTo>
                  <a:pt x="1400" y="1400"/>
                </a:lnTo>
                <a:close/>
              </a:path>
              <a:path fill="darken" w="59033" h="21600">
                <a:moveTo>
                  <a:pt x="59033" y="0"/>
                </a:moveTo>
                <a:lnTo>
                  <a:pt x="59033" y="21600"/>
                </a:lnTo>
                <a:lnTo>
                  <a:pt x="57633" y="20200"/>
                </a:lnTo>
                <a:lnTo>
                  <a:pt x="57633" y="1400"/>
                </a:lnTo>
                <a:close/>
              </a:path>
              <a:path fill="darkenLess" w="59033" h="21600">
                <a:moveTo>
                  <a:pt x="59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33" y="20200"/>
                </a:lnTo>
                <a:close/>
              </a:path>
              <a:path fill="lighten" w="59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Click HERE t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try agai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66"/>
                </a:solidFill>
                <a:latin typeface="Arial"/>
              </a:rPr>
              <a:t>CORRECT!</a:t>
            </a:r>
            <a:endParaRPr b="0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47" name="Picture 3" descr="happygirl2"/>
          <p:cNvPicPr/>
          <p:nvPr/>
        </p:nvPicPr>
        <p:blipFill>
          <a:blip r:embed="rId1"/>
          <a:stretch/>
        </p:blipFill>
        <p:spPr>
          <a:xfrm>
            <a:off x="6858000" y="4419720"/>
            <a:ext cx="1990800" cy="2076480"/>
          </a:xfrm>
          <a:prstGeom prst="rect">
            <a:avLst/>
          </a:prstGeom>
          <a:ln w="0">
            <a:noFill/>
          </a:ln>
        </p:spPr>
      </p:pic>
      <p:sp>
        <p:nvSpPr>
          <p:cNvPr id="1548" name="AutoShape 4"/>
          <p:cNvSpPr/>
          <p:nvPr/>
        </p:nvSpPr>
        <p:spPr>
          <a:xfrm>
            <a:off x="2895480" y="2362320"/>
            <a:ext cx="3962520" cy="2590560"/>
          </a:xfrm>
          <a:prstGeom prst="wedgeEllipseCallout">
            <a:avLst>
              <a:gd name="adj1" fmla="val 46032"/>
              <a:gd name="adj2" fmla="val 5043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subject and verb are in agreeme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AutoShape 6">
            <a:hlinkClick r:id="" action="ppaction://hlinkshowjump?jump=nextslide"/>
          </p:cNvPr>
          <p:cNvSpPr/>
          <p:nvPr/>
        </p:nvSpPr>
        <p:spPr>
          <a:xfrm>
            <a:off x="2895480" y="5486400"/>
            <a:ext cx="3124440" cy="1143000"/>
          </a:xfrm>
          <a:custGeom>
            <a:avLst/>
            <a:gdLst>
              <a:gd name="textAreaLeft" fmla="*/ 73800 w 3124440"/>
              <a:gd name="textAreaRight" fmla="*/ 3050640 w 31244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9033" h="21600">
                <a:moveTo>
                  <a:pt x="0" y="0"/>
                </a:moveTo>
                <a:lnTo>
                  <a:pt x="59033" y="0"/>
                </a:lnTo>
                <a:lnTo>
                  <a:pt x="59033" y="21600"/>
                </a:lnTo>
                <a:lnTo>
                  <a:pt x="0" y="21600"/>
                </a:lnTo>
                <a:close/>
              </a:path>
              <a:path fill="lightenLess" w="59033" h="21600">
                <a:moveTo>
                  <a:pt x="0" y="0"/>
                </a:moveTo>
                <a:lnTo>
                  <a:pt x="59033" y="0"/>
                </a:lnTo>
                <a:lnTo>
                  <a:pt x="57633" y="1400"/>
                </a:lnTo>
                <a:lnTo>
                  <a:pt x="1400" y="1400"/>
                </a:lnTo>
                <a:close/>
              </a:path>
              <a:path fill="darken" w="59033" h="21600">
                <a:moveTo>
                  <a:pt x="59033" y="0"/>
                </a:moveTo>
                <a:lnTo>
                  <a:pt x="59033" y="21600"/>
                </a:lnTo>
                <a:lnTo>
                  <a:pt x="57633" y="20200"/>
                </a:lnTo>
                <a:lnTo>
                  <a:pt x="57633" y="1400"/>
                </a:lnTo>
                <a:close/>
              </a:path>
              <a:path fill="darkenLess" w="59033" h="21600">
                <a:moveTo>
                  <a:pt x="59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33" y="20200"/>
                </a:lnTo>
                <a:close/>
              </a:path>
              <a:path fill="lighten" w="59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HERE t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6666"/>
                </a:solidFill>
                <a:uFillTx/>
                <a:latin typeface="Arial"/>
                <a:hlinkClick r:id="rId2" action="ppaction://hlinksldjump"/>
              </a:rPr>
              <a:t>mov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996666"/>
                </a:solidFill>
                <a:uFillTx/>
                <a:latin typeface="Arial"/>
                <a:hlinkClick r:id="rId3" action="ppaction://hlinksldjump"/>
              </a:rPr>
              <a:t>forward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Everyone at the movie is taking a dollar.</a:t>
            </a: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66"/>
                </a:solidFill>
                <a:uFillTx/>
                <a:latin typeface="Arial"/>
                <a:hlinkClick r:id="rId1" action="ppaction://hlinksldjump"/>
              </a:rPr>
              <a:t>correc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wer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m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r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when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52" name="Picture 4" descr="dollar"/>
          <p:cNvPicPr/>
          <p:nvPr/>
        </p:nvPicPr>
        <p:blipFill>
          <a:blip r:embed="rId2"/>
          <a:stretch/>
        </p:blipFill>
        <p:spPr>
          <a:xfrm>
            <a:off x="4191120" y="2666880"/>
            <a:ext cx="383832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66"/>
                </a:solidFill>
                <a:latin typeface="Arial"/>
              </a:rPr>
              <a:t>Oh No!</a:t>
            </a:r>
            <a:endParaRPr b="0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54" name="Picture 3" descr="shocked"/>
          <p:cNvPicPr/>
          <p:nvPr/>
        </p:nvPicPr>
        <p:blipFill>
          <a:blip r:embed="rId1"/>
          <a:stretch/>
        </p:blipFill>
        <p:spPr>
          <a:xfrm>
            <a:off x="6835680" y="3581280"/>
            <a:ext cx="2003400" cy="3124440"/>
          </a:xfrm>
          <a:prstGeom prst="rect">
            <a:avLst/>
          </a:prstGeom>
          <a:ln w="0">
            <a:noFill/>
          </a:ln>
        </p:spPr>
      </p:pic>
      <p:sp>
        <p:nvSpPr>
          <p:cNvPr id="1555" name="AutoShape 4"/>
          <p:cNvSpPr/>
          <p:nvPr/>
        </p:nvSpPr>
        <p:spPr>
          <a:xfrm>
            <a:off x="3276720" y="2209680"/>
            <a:ext cx="3962160" cy="2590920"/>
          </a:xfrm>
          <a:prstGeom prst="wedgeEllipseCallout">
            <a:avLst>
              <a:gd name="adj1" fmla="val 38981"/>
              <a:gd name="adj2" fmla="val 656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subject and verb are not in agreeme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AutoShape 5">
            <a:hlinkClick r:id="" action="ppaction://hlinkshowjump?jump=previousslide"/>
          </p:cNvPr>
          <p:cNvSpPr/>
          <p:nvPr/>
        </p:nvSpPr>
        <p:spPr>
          <a:xfrm>
            <a:off x="2895480" y="5486400"/>
            <a:ext cx="3124440" cy="1143000"/>
          </a:xfrm>
          <a:custGeom>
            <a:avLst/>
            <a:gdLst>
              <a:gd name="textAreaLeft" fmla="*/ 73800 w 3124440"/>
              <a:gd name="textAreaRight" fmla="*/ 3050640 w 31244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9033" h="21600">
                <a:moveTo>
                  <a:pt x="0" y="0"/>
                </a:moveTo>
                <a:lnTo>
                  <a:pt x="59033" y="0"/>
                </a:lnTo>
                <a:lnTo>
                  <a:pt x="59033" y="21600"/>
                </a:lnTo>
                <a:lnTo>
                  <a:pt x="0" y="21600"/>
                </a:lnTo>
                <a:close/>
              </a:path>
              <a:path fill="lightenLess" w="59033" h="21600">
                <a:moveTo>
                  <a:pt x="0" y="0"/>
                </a:moveTo>
                <a:lnTo>
                  <a:pt x="59033" y="0"/>
                </a:lnTo>
                <a:lnTo>
                  <a:pt x="57633" y="1400"/>
                </a:lnTo>
                <a:lnTo>
                  <a:pt x="1400" y="1400"/>
                </a:lnTo>
                <a:close/>
              </a:path>
              <a:path fill="darken" w="59033" h="21600">
                <a:moveTo>
                  <a:pt x="59033" y="0"/>
                </a:moveTo>
                <a:lnTo>
                  <a:pt x="59033" y="21600"/>
                </a:lnTo>
                <a:lnTo>
                  <a:pt x="57633" y="20200"/>
                </a:lnTo>
                <a:lnTo>
                  <a:pt x="57633" y="1400"/>
                </a:lnTo>
                <a:close/>
              </a:path>
              <a:path fill="darkenLess" w="59033" h="21600">
                <a:moveTo>
                  <a:pt x="59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33" y="20200"/>
                </a:lnTo>
                <a:close/>
              </a:path>
              <a:path fill="lighten" w="59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Click HERE t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6666"/>
                </a:solidFill>
                <a:uFillTx/>
                <a:latin typeface="Arial"/>
                <a:hlinkClick r:id="rId2" action="ppaction://hlinksldjump"/>
              </a:rPr>
              <a:t>try</a:t>
            </a: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 agai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66"/>
                </a:solidFill>
                <a:latin typeface="Arial"/>
              </a:rPr>
              <a:t>CORRECT!</a:t>
            </a:r>
            <a:endParaRPr b="0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58" name="Picture 3" descr="happygirl2"/>
          <p:cNvPicPr/>
          <p:nvPr/>
        </p:nvPicPr>
        <p:blipFill>
          <a:blip r:embed="rId1"/>
          <a:stretch/>
        </p:blipFill>
        <p:spPr>
          <a:xfrm>
            <a:off x="6858000" y="4419720"/>
            <a:ext cx="1990800" cy="2076480"/>
          </a:xfrm>
          <a:prstGeom prst="rect">
            <a:avLst/>
          </a:prstGeom>
          <a:ln w="0">
            <a:noFill/>
          </a:ln>
        </p:spPr>
      </p:pic>
      <p:sp>
        <p:nvSpPr>
          <p:cNvPr id="1559" name="AutoShape 4"/>
          <p:cNvSpPr/>
          <p:nvPr/>
        </p:nvSpPr>
        <p:spPr>
          <a:xfrm>
            <a:off x="2895480" y="2362320"/>
            <a:ext cx="3962520" cy="2590560"/>
          </a:xfrm>
          <a:prstGeom prst="wedgeEllipseCallout">
            <a:avLst>
              <a:gd name="adj1" fmla="val 46032"/>
              <a:gd name="adj2" fmla="val 5043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subject and verb are in agreeme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AutoShape 6">
            <a:hlinkClick r:id="" action="ppaction://hlinkshowjump?jump=nextslide"/>
          </p:cNvPr>
          <p:cNvSpPr/>
          <p:nvPr/>
        </p:nvSpPr>
        <p:spPr>
          <a:xfrm>
            <a:off x="2895480" y="5486400"/>
            <a:ext cx="3124440" cy="1143000"/>
          </a:xfrm>
          <a:custGeom>
            <a:avLst/>
            <a:gdLst>
              <a:gd name="textAreaLeft" fmla="*/ 73800 w 3124440"/>
              <a:gd name="textAreaRight" fmla="*/ 3050640 w 31244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9033" h="21600">
                <a:moveTo>
                  <a:pt x="0" y="0"/>
                </a:moveTo>
                <a:lnTo>
                  <a:pt x="59033" y="0"/>
                </a:lnTo>
                <a:lnTo>
                  <a:pt x="59033" y="21600"/>
                </a:lnTo>
                <a:lnTo>
                  <a:pt x="0" y="21600"/>
                </a:lnTo>
                <a:close/>
              </a:path>
              <a:path fill="lightenLess" w="59033" h="21600">
                <a:moveTo>
                  <a:pt x="0" y="0"/>
                </a:moveTo>
                <a:lnTo>
                  <a:pt x="59033" y="0"/>
                </a:lnTo>
                <a:lnTo>
                  <a:pt x="57633" y="1400"/>
                </a:lnTo>
                <a:lnTo>
                  <a:pt x="1400" y="1400"/>
                </a:lnTo>
                <a:close/>
              </a:path>
              <a:path fill="darken" w="59033" h="21600">
                <a:moveTo>
                  <a:pt x="59033" y="0"/>
                </a:moveTo>
                <a:lnTo>
                  <a:pt x="59033" y="21600"/>
                </a:lnTo>
                <a:lnTo>
                  <a:pt x="57633" y="20200"/>
                </a:lnTo>
                <a:lnTo>
                  <a:pt x="57633" y="1400"/>
                </a:lnTo>
                <a:close/>
              </a:path>
              <a:path fill="darkenLess" w="59033" h="21600">
                <a:moveTo>
                  <a:pt x="59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33" y="20200"/>
                </a:lnTo>
                <a:close/>
              </a:path>
              <a:path fill="lighten" w="59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HERE t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6666"/>
                </a:solidFill>
                <a:uFillTx/>
                <a:latin typeface="Arial"/>
                <a:hlinkClick r:id="rId2" action="ppaction://hlinksldjump"/>
              </a:rPr>
              <a:t>mov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996666"/>
                </a:solidFill>
                <a:uFillTx/>
                <a:latin typeface="Arial"/>
                <a:hlinkClick r:id="rId3" action="ppaction://hlinksldjump"/>
              </a:rPr>
              <a:t>forward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"/>
              </a:rPr>
              <a:t>This is a fun book to read. </a:t>
            </a: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66"/>
                </a:solidFill>
                <a:uFillTx/>
                <a:latin typeface="Arial"/>
                <a:hlinkClick r:id="rId1" action="ppaction://hlinksldjump"/>
              </a:rPr>
              <a:t>correc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wa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wer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m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o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63" name="Picture 4" descr="excitedbook"/>
          <p:cNvPicPr/>
          <p:nvPr/>
        </p:nvPicPr>
        <p:blipFill>
          <a:blip r:embed="rId2"/>
          <a:stretch/>
        </p:blipFill>
        <p:spPr>
          <a:xfrm>
            <a:off x="4114800" y="16765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66"/>
                </a:solidFill>
                <a:latin typeface="Arial"/>
              </a:rPr>
              <a:t>Oh No!</a:t>
            </a:r>
            <a:endParaRPr b="0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65" name="Picture 3" descr="shocked"/>
          <p:cNvPicPr/>
          <p:nvPr/>
        </p:nvPicPr>
        <p:blipFill>
          <a:blip r:embed="rId1"/>
          <a:stretch/>
        </p:blipFill>
        <p:spPr>
          <a:xfrm>
            <a:off x="6835680" y="3581280"/>
            <a:ext cx="2003400" cy="3124440"/>
          </a:xfrm>
          <a:prstGeom prst="rect">
            <a:avLst/>
          </a:prstGeom>
          <a:ln w="0">
            <a:noFill/>
          </a:ln>
        </p:spPr>
      </p:pic>
      <p:sp>
        <p:nvSpPr>
          <p:cNvPr id="1566" name="AutoShape 4"/>
          <p:cNvSpPr/>
          <p:nvPr/>
        </p:nvSpPr>
        <p:spPr>
          <a:xfrm>
            <a:off x="3276720" y="2209680"/>
            <a:ext cx="3962160" cy="2590920"/>
          </a:xfrm>
          <a:prstGeom prst="wedgeEllipseCallout">
            <a:avLst>
              <a:gd name="adj1" fmla="val 38981"/>
              <a:gd name="adj2" fmla="val 656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subject and verb are not in agreeme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AutoShape 5">
            <a:hlinkClick r:id="" action="ppaction://hlinkshowjump?jump=previousslide"/>
          </p:cNvPr>
          <p:cNvSpPr/>
          <p:nvPr/>
        </p:nvSpPr>
        <p:spPr>
          <a:xfrm>
            <a:off x="2895480" y="5486400"/>
            <a:ext cx="3124440" cy="1143000"/>
          </a:xfrm>
          <a:custGeom>
            <a:avLst/>
            <a:gdLst>
              <a:gd name="textAreaLeft" fmla="*/ 73800 w 3124440"/>
              <a:gd name="textAreaRight" fmla="*/ 3050640 w 31244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9033" h="21600">
                <a:moveTo>
                  <a:pt x="0" y="0"/>
                </a:moveTo>
                <a:lnTo>
                  <a:pt x="59033" y="0"/>
                </a:lnTo>
                <a:lnTo>
                  <a:pt x="59033" y="21600"/>
                </a:lnTo>
                <a:lnTo>
                  <a:pt x="0" y="21600"/>
                </a:lnTo>
                <a:close/>
              </a:path>
              <a:path fill="lightenLess" w="59033" h="21600">
                <a:moveTo>
                  <a:pt x="0" y="0"/>
                </a:moveTo>
                <a:lnTo>
                  <a:pt x="59033" y="0"/>
                </a:lnTo>
                <a:lnTo>
                  <a:pt x="57633" y="1400"/>
                </a:lnTo>
                <a:lnTo>
                  <a:pt x="1400" y="1400"/>
                </a:lnTo>
                <a:close/>
              </a:path>
              <a:path fill="darken" w="59033" h="21600">
                <a:moveTo>
                  <a:pt x="59033" y="0"/>
                </a:moveTo>
                <a:lnTo>
                  <a:pt x="59033" y="21600"/>
                </a:lnTo>
                <a:lnTo>
                  <a:pt x="57633" y="20200"/>
                </a:lnTo>
                <a:lnTo>
                  <a:pt x="57633" y="1400"/>
                </a:lnTo>
                <a:close/>
              </a:path>
              <a:path fill="darkenLess" w="59033" h="21600">
                <a:moveTo>
                  <a:pt x="59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33" y="20200"/>
                </a:lnTo>
                <a:close/>
              </a:path>
              <a:path fill="lighten" w="59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Click HERE t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try agai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66"/>
                </a:solidFill>
                <a:latin typeface="Arial"/>
              </a:rPr>
              <a:t>CORRECT!</a:t>
            </a:r>
            <a:endParaRPr b="0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69" name="Picture 3" descr="happygirl2"/>
          <p:cNvPicPr/>
          <p:nvPr/>
        </p:nvPicPr>
        <p:blipFill>
          <a:blip r:embed="rId1"/>
          <a:stretch/>
        </p:blipFill>
        <p:spPr>
          <a:xfrm>
            <a:off x="6858000" y="4419720"/>
            <a:ext cx="1990800" cy="2076480"/>
          </a:xfrm>
          <a:prstGeom prst="rect">
            <a:avLst/>
          </a:prstGeom>
          <a:ln w="0">
            <a:noFill/>
          </a:ln>
        </p:spPr>
      </p:pic>
      <p:sp>
        <p:nvSpPr>
          <p:cNvPr id="1570" name="AutoShape 4"/>
          <p:cNvSpPr/>
          <p:nvPr/>
        </p:nvSpPr>
        <p:spPr>
          <a:xfrm>
            <a:off x="2895480" y="2362320"/>
            <a:ext cx="3962520" cy="2590560"/>
          </a:xfrm>
          <a:prstGeom prst="wedgeEllipseCallout">
            <a:avLst>
              <a:gd name="adj1" fmla="val 46032"/>
              <a:gd name="adj2" fmla="val 5043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subject and verb are in agreeme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AutoShape 6">
            <a:hlinkClick r:id="" action="ppaction://hlinkshowjump?jump=nextslide"/>
          </p:cNvPr>
          <p:cNvSpPr/>
          <p:nvPr/>
        </p:nvSpPr>
        <p:spPr>
          <a:xfrm>
            <a:off x="2895480" y="5486400"/>
            <a:ext cx="3124440" cy="1143000"/>
          </a:xfrm>
          <a:custGeom>
            <a:avLst/>
            <a:gdLst>
              <a:gd name="textAreaLeft" fmla="*/ 73800 w 3124440"/>
              <a:gd name="textAreaRight" fmla="*/ 3050640 w 31244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9033" h="21600">
                <a:moveTo>
                  <a:pt x="0" y="0"/>
                </a:moveTo>
                <a:lnTo>
                  <a:pt x="59033" y="0"/>
                </a:lnTo>
                <a:lnTo>
                  <a:pt x="59033" y="21600"/>
                </a:lnTo>
                <a:lnTo>
                  <a:pt x="0" y="21600"/>
                </a:lnTo>
                <a:close/>
              </a:path>
              <a:path fill="lightenLess" w="59033" h="21600">
                <a:moveTo>
                  <a:pt x="0" y="0"/>
                </a:moveTo>
                <a:lnTo>
                  <a:pt x="59033" y="0"/>
                </a:lnTo>
                <a:lnTo>
                  <a:pt x="57633" y="1400"/>
                </a:lnTo>
                <a:lnTo>
                  <a:pt x="1400" y="1400"/>
                </a:lnTo>
                <a:close/>
              </a:path>
              <a:path fill="darken" w="59033" h="21600">
                <a:moveTo>
                  <a:pt x="59033" y="0"/>
                </a:moveTo>
                <a:lnTo>
                  <a:pt x="59033" y="21600"/>
                </a:lnTo>
                <a:lnTo>
                  <a:pt x="57633" y="20200"/>
                </a:lnTo>
                <a:lnTo>
                  <a:pt x="57633" y="1400"/>
                </a:lnTo>
                <a:close/>
              </a:path>
              <a:path fill="darkenLess" w="59033" h="21600">
                <a:moveTo>
                  <a:pt x="59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33" y="20200"/>
                </a:lnTo>
                <a:close/>
              </a:path>
              <a:path fill="lighten" w="59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HERE t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ve </a:t>
            </a:r>
            <a:r>
              <a:rPr b="1" lang="en-US" sz="3200" spc="-1" strike="noStrike" u="sng">
                <a:solidFill>
                  <a:srgbClr val="996666"/>
                </a:solidFill>
                <a:uFillTx/>
                <a:latin typeface="Arial"/>
                <a:hlinkClick r:id="rId2" action="ppaction://hlinksldjump"/>
              </a:rPr>
              <a:t>forward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One time I were at the mountains. </a:t>
            </a:r>
            <a:endParaRPr b="0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66"/>
                </a:solidFill>
                <a:uFillTx/>
                <a:latin typeface="Arial"/>
                <a:hlinkClick r:id="rId1" action="ppaction://hlinksldjump"/>
              </a:rPr>
              <a:t>correc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66"/>
                </a:solidFill>
                <a:uFillTx/>
                <a:latin typeface="Arial"/>
                <a:hlinkClick r:id="rId2" action="ppaction://hlinksldjump"/>
              </a:rPr>
              <a:t>wa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i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m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o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74" name="Picture 4" descr="mts"/>
          <p:cNvPicPr/>
          <p:nvPr/>
        </p:nvPicPr>
        <p:blipFill>
          <a:blip r:embed="rId3"/>
          <a:stretch/>
        </p:blipFill>
        <p:spPr>
          <a:xfrm>
            <a:off x="4038480" y="2666880"/>
            <a:ext cx="389124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66"/>
                </a:solidFill>
                <a:latin typeface="Arial"/>
              </a:rPr>
              <a:t>Oh No!</a:t>
            </a:r>
            <a:endParaRPr b="0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76" name="Picture 3" descr="shocked"/>
          <p:cNvPicPr/>
          <p:nvPr/>
        </p:nvPicPr>
        <p:blipFill>
          <a:blip r:embed="rId1"/>
          <a:stretch/>
        </p:blipFill>
        <p:spPr>
          <a:xfrm>
            <a:off x="6835680" y="3581280"/>
            <a:ext cx="2003400" cy="3124440"/>
          </a:xfrm>
          <a:prstGeom prst="rect">
            <a:avLst/>
          </a:prstGeom>
          <a:ln w="0">
            <a:noFill/>
          </a:ln>
        </p:spPr>
      </p:pic>
      <p:sp>
        <p:nvSpPr>
          <p:cNvPr id="1577" name="AutoShape 4"/>
          <p:cNvSpPr/>
          <p:nvPr/>
        </p:nvSpPr>
        <p:spPr>
          <a:xfrm>
            <a:off x="3276720" y="2209680"/>
            <a:ext cx="3962160" cy="2590920"/>
          </a:xfrm>
          <a:prstGeom prst="wedgeEllipseCallout">
            <a:avLst>
              <a:gd name="adj1" fmla="val 38981"/>
              <a:gd name="adj2" fmla="val 656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subject and verb are not in agreeme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AutoShape 5">
            <a:hlinkClick r:id="" action="ppaction://hlinkshowjump?jump=previousslide"/>
          </p:cNvPr>
          <p:cNvSpPr/>
          <p:nvPr/>
        </p:nvSpPr>
        <p:spPr>
          <a:xfrm>
            <a:off x="2895480" y="5486400"/>
            <a:ext cx="3124440" cy="1143000"/>
          </a:xfrm>
          <a:custGeom>
            <a:avLst/>
            <a:gdLst>
              <a:gd name="textAreaLeft" fmla="*/ 73800 w 3124440"/>
              <a:gd name="textAreaRight" fmla="*/ 3050640 w 31244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9033" h="21600">
                <a:moveTo>
                  <a:pt x="0" y="0"/>
                </a:moveTo>
                <a:lnTo>
                  <a:pt x="59033" y="0"/>
                </a:lnTo>
                <a:lnTo>
                  <a:pt x="59033" y="21600"/>
                </a:lnTo>
                <a:lnTo>
                  <a:pt x="0" y="21600"/>
                </a:lnTo>
                <a:close/>
              </a:path>
              <a:path fill="lightenLess" w="59033" h="21600">
                <a:moveTo>
                  <a:pt x="0" y="0"/>
                </a:moveTo>
                <a:lnTo>
                  <a:pt x="59033" y="0"/>
                </a:lnTo>
                <a:lnTo>
                  <a:pt x="57633" y="1400"/>
                </a:lnTo>
                <a:lnTo>
                  <a:pt x="1400" y="1400"/>
                </a:lnTo>
                <a:close/>
              </a:path>
              <a:path fill="darken" w="59033" h="21600">
                <a:moveTo>
                  <a:pt x="59033" y="0"/>
                </a:moveTo>
                <a:lnTo>
                  <a:pt x="59033" y="21600"/>
                </a:lnTo>
                <a:lnTo>
                  <a:pt x="57633" y="20200"/>
                </a:lnTo>
                <a:lnTo>
                  <a:pt x="57633" y="1400"/>
                </a:lnTo>
                <a:close/>
              </a:path>
              <a:path fill="darkenLess" w="59033" h="21600">
                <a:moveTo>
                  <a:pt x="59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33" y="20200"/>
                </a:lnTo>
                <a:close/>
              </a:path>
              <a:path fill="lighten" w="59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Click </a:t>
            </a:r>
            <a:r>
              <a:rPr b="1" lang="en-US" sz="3200" spc="-1" strike="noStrike" u="sng">
                <a:solidFill>
                  <a:srgbClr val="996666"/>
                </a:solidFill>
                <a:uFillTx/>
                <a:latin typeface="Arial"/>
                <a:hlinkClick r:id="rId2" action="ppaction://hlinksldjump"/>
              </a:rPr>
              <a:t>HERE</a:t>
            </a: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 t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try agai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66"/>
                </a:solidFill>
                <a:latin typeface="Arial"/>
              </a:rPr>
              <a:t>These create problems:</a:t>
            </a: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nouns such a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veryo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verybod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eem plural, but they are alway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ingul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— so they need a singular verb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8" name="Text Box 4"/>
          <p:cNvSpPr/>
          <p:nvPr/>
        </p:nvSpPr>
        <p:spPr>
          <a:xfrm>
            <a:off x="990720" y="342900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Everyon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who worked on the   science project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 winner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Text Box 5"/>
          <p:cNvSpPr/>
          <p:nvPr/>
        </p:nvSpPr>
        <p:spPr>
          <a:xfrm>
            <a:off x="1143000" y="49528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omeon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a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o answer the phon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0" name="Picture 6" descr="gardeningseeds"/>
          <p:cNvPicPr/>
          <p:nvPr/>
        </p:nvPicPr>
        <p:blipFill>
          <a:blip r:embed="rId1"/>
          <a:stretch/>
        </p:blipFill>
        <p:spPr>
          <a:xfrm>
            <a:off x="6858000" y="3809880"/>
            <a:ext cx="1971720" cy="155268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7" descr="payphone"/>
          <p:cNvPicPr/>
          <p:nvPr/>
        </p:nvPicPr>
        <p:blipFill>
          <a:blip r:embed="rId2"/>
          <a:stretch/>
        </p:blipFill>
        <p:spPr>
          <a:xfrm>
            <a:off x="8001000" y="5315040"/>
            <a:ext cx="66996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eethi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h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66"/>
                </a:solidFill>
                <a:latin typeface="Arial"/>
              </a:rPr>
              <a:t>CORRECT!</a:t>
            </a:r>
            <a:endParaRPr b="0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80" name="Picture 3" descr="happygirl2"/>
          <p:cNvPicPr/>
          <p:nvPr/>
        </p:nvPicPr>
        <p:blipFill>
          <a:blip r:embed="rId1"/>
          <a:stretch/>
        </p:blipFill>
        <p:spPr>
          <a:xfrm>
            <a:off x="6858000" y="4419720"/>
            <a:ext cx="1990800" cy="2076480"/>
          </a:xfrm>
          <a:prstGeom prst="rect">
            <a:avLst/>
          </a:prstGeom>
          <a:ln w="0">
            <a:noFill/>
          </a:ln>
        </p:spPr>
      </p:pic>
      <p:sp>
        <p:nvSpPr>
          <p:cNvPr id="1581" name="AutoShape 4"/>
          <p:cNvSpPr/>
          <p:nvPr/>
        </p:nvSpPr>
        <p:spPr>
          <a:xfrm>
            <a:off x="2895480" y="2362320"/>
            <a:ext cx="3962520" cy="2590560"/>
          </a:xfrm>
          <a:prstGeom prst="wedgeEllipseCallout">
            <a:avLst>
              <a:gd name="adj1" fmla="val 46032"/>
              <a:gd name="adj2" fmla="val 5043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subject and verb are in agreeme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AutoShape 6">
            <a:hlinkClick r:id="" action="ppaction://hlinkshowjump?jump=nextslide"/>
          </p:cNvPr>
          <p:cNvSpPr/>
          <p:nvPr/>
        </p:nvSpPr>
        <p:spPr>
          <a:xfrm>
            <a:off x="2895480" y="5486400"/>
            <a:ext cx="3124440" cy="1143000"/>
          </a:xfrm>
          <a:custGeom>
            <a:avLst/>
            <a:gdLst>
              <a:gd name="textAreaLeft" fmla="*/ 73800 w 3124440"/>
              <a:gd name="textAreaRight" fmla="*/ 3050640 w 31244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9033" h="21600">
                <a:moveTo>
                  <a:pt x="0" y="0"/>
                </a:moveTo>
                <a:lnTo>
                  <a:pt x="59033" y="0"/>
                </a:lnTo>
                <a:lnTo>
                  <a:pt x="59033" y="21600"/>
                </a:lnTo>
                <a:lnTo>
                  <a:pt x="0" y="21600"/>
                </a:lnTo>
                <a:close/>
              </a:path>
              <a:path fill="lightenLess" w="59033" h="21600">
                <a:moveTo>
                  <a:pt x="0" y="0"/>
                </a:moveTo>
                <a:lnTo>
                  <a:pt x="59033" y="0"/>
                </a:lnTo>
                <a:lnTo>
                  <a:pt x="57633" y="1400"/>
                </a:lnTo>
                <a:lnTo>
                  <a:pt x="1400" y="1400"/>
                </a:lnTo>
                <a:close/>
              </a:path>
              <a:path fill="darken" w="59033" h="21600">
                <a:moveTo>
                  <a:pt x="59033" y="0"/>
                </a:moveTo>
                <a:lnTo>
                  <a:pt x="59033" y="21600"/>
                </a:lnTo>
                <a:lnTo>
                  <a:pt x="57633" y="20200"/>
                </a:lnTo>
                <a:lnTo>
                  <a:pt x="57633" y="1400"/>
                </a:lnTo>
                <a:close/>
              </a:path>
              <a:path fill="darkenLess" w="59033" h="21600">
                <a:moveTo>
                  <a:pt x="59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33" y="20200"/>
                </a:lnTo>
                <a:close/>
              </a:path>
              <a:path fill="lighten" w="59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HERE t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ve forwar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Everyone are going to the circus.</a:t>
            </a:r>
            <a:endParaRPr b="0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66"/>
                </a:solidFill>
                <a:uFillTx/>
                <a:latin typeface="Arial"/>
                <a:hlinkClick r:id="rId1" action="ppaction://hlinksldjump"/>
              </a:rPr>
              <a:t>correc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66"/>
                </a:solidFill>
                <a:uFillTx/>
                <a:latin typeface="Arial"/>
                <a:hlinkClick r:id="rId2" action="ppaction://hlinksldjump"/>
              </a:rPr>
              <a:t>wer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66"/>
                </a:solidFill>
                <a:uFillTx/>
                <a:latin typeface="Arial"/>
                <a:hlinkClick r:id="rId3" action="ppaction://hlinksldjump"/>
              </a:rPr>
              <a:t>wa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66"/>
                </a:solidFill>
                <a:uFillTx/>
                <a:latin typeface="Arial"/>
                <a:hlinkClick r:id="rId4" action="ppaction://hlinksldjump"/>
              </a:rPr>
              <a:t>i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o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85" name="Picture 4" descr="circus"/>
          <p:cNvPicPr/>
          <p:nvPr/>
        </p:nvPicPr>
        <p:blipFill>
          <a:blip r:embed="rId5"/>
          <a:stretch/>
        </p:blipFill>
        <p:spPr>
          <a:xfrm>
            <a:off x="2895480" y="2133720"/>
            <a:ext cx="571500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66"/>
                </a:solidFill>
                <a:latin typeface="Arial"/>
              </a:rPr>
              <a:t>Oh No!</a:t>
            </a:r>
            <a:endParaRPr b="0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87" name="Picture 3" descr="shocked"/>
          <p:cNvPicPr/>
          <p:nvPr/>
        </p:nvPicPr>
        <p:blipFill>
          <a:blip r:embed="rId1"/>
          <a:stretch/>
        </p:blipFill>
        <p:spPr>
          <a:xfrm>
            <a:off x="6835680" y="3581280"/>
            <a:ext cx="2003400" cy="3124440"/>
          </a:xfrm>
          <a:prstGeom prst="rect">
            <a:avLst/>
          </a:prstGeom>
          <a:ln w="0">
            <a:noFill/>
          </a:ln>
        </p:spPr>
      </p:pic>
      <p:sp>
        <p:nvSpPr>
          <p:cNvPr id="1588" name="AutoShape 4"/>
          <p:cNvSpPr/>
          <p:nvPr/>
        </p:nvSpPr>
        <p:spPr>
          <a:xfrm>
            <a:off x="3276720" y="2209680"/>
            <a:ext cx="3962160" cy="2590920"/>
          </a:xfrm>
          <a:prstGeom prst="wedgeEllipseCallout">
            <a:avLst>
              <a:gd name="adj1" fmla="val 38981"/>
              <a:gd name="adj2" fmla="val 656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subject and verb are not in agreeme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AutoShape 5">
            <a:hlinkClick r:id="" action="ppaction://hlinkshowjump?jump=previousslide"/>
          </p:cNvPr>
          <p:cNvSpPr/>
          <p:nvPr/>
        </p:nvSpPr>
        <p:spPr>
          <a:xfrm>
            <a:off x="2895480" y="5486400"/>
            <a:ext cx="3124440" cy="1143000"/>
          </a:xfrm>
          <a:custGeom>
            <a:avLst/>
            <a:gdLst>
              <a:gd name="textAreaLeft" fmla="*/ 73800 w 3124440"/>
              <a:gd name="textAreaRight" fmla="*/ 3050640 w 31244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9033" h="21600">
                <a:moveTo>
                  <a:pt x="0" y="0"/>
                </a:moveTo>
                <a:lnTo>
                  <a:pt x="59033" y="0"/>
                </a:lnTo>
                <a:lnTo>
                  <a:pt x="59033" y="21600"/>
                </a:lnTo>
                <a:lnTo>
                  <a:pt x="0" y="21600"/>
                </a:lnTo>
                <a:close/>
              </a:path>
              <a:path fill="lightenLess" w="59033" h="21600">
                <a:moveTo>
                  <a:pt x="0" y="0"/>
                </a:moveTo>
                <a:lnTo>
                  <a:pt x="59033" y="0"/>
                </a:lnTo>
                <a:lnTo>
                  <a:pt x="57633" y="1400"/>
                </a:lnTo>
                <a:lnTo>
                  <a:pt x="1400" y="1400"/>
                </a:lnTo>
                <a:close/>
              </a:path>
              <a:path fill="darken" w="59033" h="21600">
                <a:moveTo>
                  <a:pt x="59033" y="0"/>
                </a:moveTo>
                <a:lnTo>
                  <a:pt x="59033" y="21600"/>
                </a:lnTo>
                <a:lnTo>
                  <a:pt x="57633" y="20200"/>
                </a:lnTo>
                <a:lnTo>
                  <a:pt x="57633" y="1400"/>
                </a:lnTo>
                <a:close/>
              </a:path>
              <a:path fill="darkenLess" w="59033" h="21600">
                <a:moveTo>
                  <a:pt x="59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33" y="20200"/>
                </a:lnTo>
                <a:close/>
              </a:path>
              <a:path fill="lighten" w="59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6666"/>
                </a:solidFill>
                <a:uFillTx/>
                <a:latin typeface="Arial"/>
                <a:hlinkClick r:id="rId2" action="ppaction://hlinksldjump"/>
              </a:rPr>
              <a:t>Click</a:t>
            </a: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 HERE t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try agai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66"/>
                </a:solidFill>
                <a:latin typeface="Arial"/>
              </a:rPr>
              <a:t>CORRECT!</a:t>
            </a:r>
            <a:endParaRPr b="0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91" name="Picture 3" descr="happygirl2"/>
          <p:cNvPicPr/>
          <p:nvPr/>
        </p:nvPicPr>
        <p:blipFill>
          <a:blip r:embed="rId1"/>
          <a:stretch/>
        </p:blipFill>
        <p:spPr>
          <a:xfrm>
            <a:off x="6858000" y="4419720"/>
            <a:ext cx="1990800" cy="2076480"/>
          </a:xfrm>
          <a:prstGeom prst="rect">
            <a:avLst/>
          </a:prstGeom>
          <a:ln w="0">
            <a:noFill/>
          </a:ln>
        </p:spPr>
      </p:pic>
      <p:sp>
        <p:nvSpPr>
          <p:cNvPr id="1592" name="AutoShape 4"/>
          <p:cNvSpPr/>
          <p:nvPr/>
        </p:nvSpPr>
        <p:spPr>
          <a:xfrm>
            <a:off x="2895480" y="2362320"/>
            <a:ext cx="3962520" cy="2590560"/>
          </a:xfrm>
          <a:prstGeom prst="wedgeEllipseCallout">
            <a:avLst>
              <a:gd name="adj1" fmla="val 46032"/>
              <a:gd name="adj2" fmla="val 5043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subject and verb are in agreeme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AutoShape 6">
            <a:hlinkClick r:id="" action="ppaction://hlinkshowjump?jump=nextslide"/>
          </p:cNvPr>
          <p:cNvSpPr/>
          <p:nvPr/>
        </p:nvSpPr>
        <p:spPr>
          <a:xfrm>
            <a:off x="2895480" y="5486400"/>
            <a:ext cx="3124440" cy="1143000"/>
          </a:xfrm>
          <a:custGeom>
            <a:avLst/>
            <a:gdLst>
              <a:gd name="textAreaLeft" fmla="*/ 73800 w 3124440"/>
              <a:gd name="textAreaRight" fmla="*/ 3050640 w 31244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9033" h="21600">
                <a:moveTo>
                  <a:pt x="0" y="0"/>
                </a:moveTo>
                <a:lnTo>
                  <a:pt x="59033" y="0"/>
                </a:lnTo>
                <a:lnTo>
                  <a:pt x="59033" y="21600"/>
                </a:lnTo>
                <a:lnTo>
                  <a:pt x="0" y="21600"/>
                </a:lnTo>
                <a:close/>
              </a:path>
              <a:path fill="lightenLess" w="59033" h="21600">
                <a:moveTo>
                  <a:pt x="0" y="0"/>
                </a:moveTo>
                <a:lnTo>
                  <a:pt x="59033" y="0"/>
                </a:lnTo>
                <a:lnTo>
                  <a:pt x="57633" y="1400"/>
                </a:lnTo>
                <a:lnTo>
                  <a:pt x="1400" y="1400"/>
                </a:lnTo>
                <a:close/>
              </a:path>
              <a:path fill="darken" w="59033" h="21600">
                <a:moveTo>
                  <a:pt x="59033" y="0"/>
                </a:moveTo>
                <a:lnTo>
                  <a:pt x="59033" y="21600"/>
                </a:lnTo>
                <a:lnTo>
                  <a:pt x="57633" y="20200"/>
                </a:lnTo>
                <a:lnTo>
                  <a:pt x="57633" y="1400"/>
                </a:lnTo>
                <a:close/>
              </a:path>
              <a:path fill="darkenLess" w="59033" h="21600">
                <a:moveTo>
                  <a:pt x="59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33" y="20200"/>
                </a:lnTo>
                <a:close/>
              </a:path>
              <a:path fill="lighten" w="59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HERE t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ve </a:t>
            </a:r>
            <a:r>
              <a:rPr b="1" lang="en-US" sz="3200" spc="-1" strike="noStrike" u="sng">
                <a:solidFill>
                  <a:srgbClr val="996666"/>
                </a:solidFill>
                <a:uFillTx/>
                <a:latin typeface="Arial"/>
                <a:hlinkClick r:id="rId2" action="ppaction://hlinksldjump"/>
              </a:rPr>
              <a:t>forward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66"/>
                </a:solidFill>
                <a:latin typeface="Arial"/>
              </a:rPr>
              <a:t>Each of the students are worried about the test.</a:t>
            </a: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66"/>
                </a:solidFill>
                <a:uFillTx/>
                <a:latin typeface="Arial"/>
                <a:hlinkClick r:id="rId1" action="ppaction://hlinksldjump"/>
              </a:rPr>
              <a:t>correc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66"/>
                </a:solidFill>
                <a:uFillTx/>
                <a:latin typeface="Arial"/>
                <a:hlinkClick r:id="rId2" action="ppaction://hlinksldjump"/>
              </a:rPr>
              <a:t>ha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6666"/>
                </a:solidFill>
                <a:uFillTx/>
                <a:latin typeface="Arial"/>
                <a:hlinkClick r:id="rId3" action="ppaction://hlinksldjump"/>
              </a:rPr>
              <a:t>i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m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o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96" name="Picture 4" descr="pupils"/>
          <p:cNvPicPr/>
          <p:nvPr/>
        </p:nvPicPr>
        <p:blipFill>
          <a:blip r:embed="rId4"/>
          <a:stretch/>
        </p:blipFill>
        <p:spPr>
          <a:xfrm>
            <a:off x="4724280" y="1828800"/>
            <a:ext cx="26481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66"/>
                </a:solidFill>
                <a:latin typeface="Arial"/>
              </a:rPr>
              <a:t>Oh No!</a:t>
            </a:r>
            <a:endParaRPr b="0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98" name="Picture 3" descr="shocked"/>
          <p:cNvPicPr/>
          <p:nvPr/>
        </p:nvPicPr>
        <p:blipFill>
          <a:blip r:embed="rId1"/>
          <a:stretch/>
        </p:blipFill>
        <p:spPr>
          <a:xfrm>
            <a:off x="6835680" y="3581280"/>
            <a:ext cx="2003400" cy="3124440"/>
          </a:xfrm>
          <a:prstGeom prst="rect">
            <a:avLst/>
          </a:prstGeom>
          <a:ln w="0">
            <a:noFill/>
          </a:ln>
        </p:spPr>
      </p:pic>
      <p:sp>
        <p:nvSpPr>
          <p:cNvPr id="1599" name="AutoShape 4"/>
          <p:cNvSpPr/>
          <p:nvPr/>
        </p:nvSpPr>
        <p:spPr>
          <a:xfrm>
            <a:off x="3276720" y="2209680"/>
            <a:ext cx="3962160" cy="2590920"/>
          </a:xfrm>
          <a:prstGeom prst="wedgeEllipseCallout">
            <a:avLst>
              <a:gd name="adj1" fmla="val 38981"/>
              <a:gd name="adj2" fmla="val 656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subject and verb are not in agreeme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AutoShape 5">
            <a:hlinkClick r:id="" action="ppaction://hlinkshowjump?jump=previousslide"/>
          </p:cNvPr>
          <p:cNvSpPr/>
          <p:nvPr/>
        </p:nvSpPr>
        <p:spPr>
          <a:xfrm>
            <a:off x="2895480" y="5486400"/>
            <a:ext cx="3124440" cy="1143000"/>
          </a:xfrm>
          <a:custGeom>
            <a:avLst/>
            <a:gdLst>
              <a:gd name="textAreaLeft" fmla="*/ 73800 w 3124440"/>
              <a:gd name="textAreaRight" fmla="*/ 3050640 w 31244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9033" h="21600">
                <a:moveTo>
                  <a:pt x="0" y="0"/>
                </a:moveTo>
                <a:lnTo>
                  <a:pt x="59033" y="0"/>
                </a:lnTo>
                <a:lnTo>
                  <a:pt x="59033" y="21600"/>
                </a:lnTo>
                <a:lnTo>
                  <a:pt x="0" y="21600"/>
                </a:lnTo>
                <a:close/>
              </a:path>
              <a:path fill="lightenLess" w="59033" h="21600">
                <a:moveTo>
                  <a:pt x="0" y="0"/>
                </a:moveTo>
                <a:lnTo>
                  <a:pt x="59033" y="0"/>
                </a:lnTo>
                <a:lnTo>
                  <a:pt x="57633" y="1400"/>
                </a:lnTo>
                <a:lnTo>
                  <a:pt x="1400" y="1400"/>
                </a:lnTo>
                <a:close/>
              </a:path>
              <a:path fill="darken" w="59033" h="21600">
                <a:moveTo>
                  <a:pt x="59033" y="0"/>
                </a:moveTo>
                <a:lnTo>
                  <a:pt x="59033" y="21600"/>
                </a:lnTo>
                <a:lnTo>
                  <a:pt x="57633" y="20200"/>
                </a:lnTo>
                <a:lnTo>
                  <a:pt x="57633" y="1400"/>
                </a:lnTo>
                <a:close/>
              </a:path>
              <a:path fill="darkenLess" w="59033" h="21600">
                <a:moveTo>
                  <a:pt x="59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33" y="20200"/>
                </a:lnTo>
                <a:close/>
              </a:path>
              <a:path fill="lighten" w="59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Click HERE t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try agai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66"/>
                </a:solidFill>
                <a:latin typeface="Arial"/>
              </a:rPr>
              <a:t>CORRECT!</a:t>
            </a:r>
            <a:endParaRPr b="0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02" name="Picture 3" descr="happygirl2"/>
          <p:cNvPicPr/>
          <p:nvPr/>
        </p:nvPicPr>
        <p:blipFill>
          <a:blip r:embed="rId1"/>
          <a:stretch/>
        </p:blipFill>
        <p:spPr>
          <a:xfrm>
            <a:off x="6858000" y="4419720"/>
            <a:ext cx="1990800" cy="2076480"/>
          </a:xfrm>
          <a:prstGeom prst="rect">
            <a:avLst/>
          </a:prstGeom>
          <a:ln w="0">
            <a:noFill/>
          </a:ln>
        </p:spPr>
      </p:pic>
      <p:sp>
        <p:nvSpPr>
          <p:cNvPr id="1603" name="AutoShape 4"/>
          <p:cNvSpPr/>
          <p:nvPr/>
        </p:nvSpPr>
        <p:spPr>
          <a:xfrm>
            <a:off x="2895480" y="2362320"/>
            <a:ext cx="3962520" cy="2590560"/>
          </a:xfrm>
          <a:prstGeom prst="wedgeEllipseCallout">
            <a:avLst>
              <a:gd name="adj1" fmla="val 46032"/>
              <a:gd name="adj2" fmla="val 5043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subject and verb are in agreeme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AutoShape 6">
            <a:hlinkClick r:id="" action="ppaction://hlinkshowjump?jump=nextslide"/>
          </p:cNvPr>
          <p:cNvSpPr/>
          <p:nvPr/>
        </p:nvSpPr>
        <p:spPr>
          <a:xfrm>
            <a:off x="2895480" y="5486400"/>
            <a:ext cx="3124440" cy="1143000"/>
          </a:xfrm>
          <a:custGeom>
            <a:avLst/>
            <a:gdLst>
              <a:gd name="textAreaLeft" fmla="*/ 73800 w 3124440"/>
              <a:gd name="textAreaRight" fmla="*/ 3050640 w 31244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9033" h="21600">
                <a:moveTo>
                  <a:pt x="0" y="0"/>
                </a:moveTo>
                <a:lnTo>
                  <a:pt x="59033" y="0"/>
                </a:lnTo>
                <a:lnTo>
                  <a:pt x="59033" y="21600"/>
                </a:lnTo>
                <a:lnTo>
                  <a:pt x="0" y="21600"/>
                </a:lnTo>
                <a:close/>
              </a:path>
              <a:path fill="lightenLess" w="59033" h="21600">
                <a:moveTo>
                  <a:pt x="0" y="0"/>
                </a:moveTo>
                <a:lnTo>
                  <a:pt x="59033" y="0"/>
                </a:lnTo>
                <a:lnTo>
                  <a:pt x="57633" y="1400"/>
                </a:lnTo>
                <a:lnTo>
                  <a:pt x="1400" y="1400"/>
                </a:lnTo>
                <a:close/>
              </a:path>
              <a:path fill="darken" w="59033" h="21600">
                <a:moveTo>
                  <a:pt x="59033" y="0"/>
                </a:moveTo>
                <a:lnTo>
                  <a:pt x="59033" y="21600"/>
                </a:lnTo>
                <a:lnTo>
                  <a:pt x="57633" y="20200"/>
                </a:lnTo>
                <a:lnTo>
                  <a:pt x="57633" y="1400"/>
                </a:lnTo>
                <a:close/>
              </a:path>
              <a:path fill="darkenLess" w="59033" h="21600">
                <a:moveTo>
                  <a:pt x="59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33" y="20200"/>
                </a:lnTo>
                <a:close/>
              </a:path>
              <a:path fill="lighten" w="59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HERE t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ve forwar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Arial"/>
              </a:rPr>
              <a:t>None of those girls go to church.</a:t>
            </a:r>
            <a:endParaRPr b="0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rrect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oes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are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ere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oes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07" name="Picture 4" descr="church1"/>
          <p:cNvPicPr/>
          <p:nvPr/>
        </p:nvPicPr>
        <p:blipFill>
          <a:blip r:embed="rId1"/>
          <a:stretch/>
        </p:blipFill>
        <p:spPr>
          <a:xfrm>
            <a:off x="4495680" y="1447920"/>
            <a:ext cx="276228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66"/>
                </a:solidFill>
                <a:latin typeface="Arial"/>
              </a:rPr>
              <a:t>Oh No!</a:t>
            </a:r>
            <a:endParaRPr b="0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09" name="Picture 3" descr="shocked"/>
          <p:cNvPicPr/>
          <p:nvPr/>
        </p:nvPicPr>
        <p:blipFill>
          <a:blip r:embed="rId1"/>
          <a:stretch/>
        </p:blipFill>
        <p:spPr>
          <a:xfrm>
            <a:off x="6835680" y="3581280"/>
            <a:ext cx="2003400" cy="3124440"/>
          </a:xfrm>
          <a:prstGeom prst="rect">
            <a:avLst/>
          </a:prstGeom>
          <a:ln w="0">
            <a:noFill/>
          </a:ln>
        </p:spPr>
      </p:pic>
      <p:sp>
        <p:nvSpPr>
          <p:cNvPr id="1610" name="AutoShape 4"/>
          <p:cNvSpPr/>
          <p:nvPr/>
        </p:nvSpPr>
        <p:spPr>
          <a:xfrm>
            <a:off x="3276720" y="2209680"/>
            <a:ext cx="3962160" cy="2590920"/>
          </a:xfrm>
          <a:prstGeom prst="wedgeEllipseCallout">
            <a:avLst>
              <a:gd name="adj1" fmla="val 38981"/>
              <a:gd name="adj2" fmla="val 656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subject and verb are not in agreeme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AutoShape 5">
            <a:hlinkClick r:id="" action="ppaction://hlinkshowjump?jump=previousslide"/>
          </p:cNvPr>
          <p:cNvSpPr/>
          <p:nvPr/>
        </p:nvSpPr>
        <p:spPr>
          <a:xfrm>
            <a:off x="2895480" y="5486400"/>
            <a:ext cx="3124440" cy="1143000"/>
          </a:xfrm>
          <a:custGeom>
            <a:avLst/>
            <a:gdLst>
              <a:gd name="textAreaLeft" fmla="*/ 73800 w 3124440"/>
              <a:gd name="textAreaRight" fmla="*/ 3050640 w 31244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9033" h="21600">
                <a:moveTo>
                  <a:pt x="0" y="0"/>
                </a:moveTo>
                <a:lnTo>
                  <a:pt x="59033" y="0"/>
                </a:lnTo>
                <a:lnTo>
                  <a:pt x="59033" y="21600"/>
                </a:lnTo>
                <a:lnTo>
                  <a:pt x="0" y="21600"/>
                </a:lnTo>
                <a:close/>
              </a:path>
              <a:path fill="lightenLess" w="59033" h="21600">
                <a:moveTo>
                  <a:pt x="0" y="0"/>
                </a:moveTo>
                <a:lnTo>
                  <a:pt x="59033" y="0"/>
                </a:lnTo>
                <a:lnTo>
                  <a:pt x="57633" y="1400"/>
                </a:lnTo>
                <a:lnTo>
                  <a:pt x="1400" y="1400"/>
                </a:lnTo>
                <a:close/>
              </a:path>
              <a:path fill="darken" w="59033" h="21600">
                <a:moveTo>
                  <a:pt x="59033" y="0"/>
                </a:moveTo>
                <a:lnTo>
                  <a:pt x="59033" y="21600"/>
                </a:lnTo>
                <a:lnTo>
                  <a:pt x="57633" y="20200"/>
                </a:lnTo>
                <a:lnTo>
                  <a:pt x="57633" y="1400"/>
                </a:lnTo>
                <a:close/>
              </a:path>
              <a:path fill="darkenLess" w="59033" h="21600">
                <a:moveTo>
                  <a:pt x="59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33" y="20200"/>
                </a:lnTo>
                <a:close/>
              </a:path>
              <a:path fill="lighten" w="59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Click HERE t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try agai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66"/>
                </a:solidFill>
                <a:latin typeface="Arial"/>
              </a:rPr>
              <a:t>CORRECT!</a:t>
            </a:r>
            <a:endParaRPr b="0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13" name="Picture 3" descr="happygirl2"/>
          <p:cNvPicPr/>
          <p:nvPr/>
        </p:nvPicPr>
        <p:blipFill>
          <a:blip r:embed="rId1"/>
          <a:stretch/>
        </p:blipFill>
        <p:spPr>
          <a:xfrm>
            <a:off x="6858000" y="4419720"/>
            <a:ext cx="1990800" cy="2076480"/>
          </a:xfrm>
          <a:prstGeom prst="rect">
            <a:avLst/>
          </a:prstGeom>
          <a:ln w="0">
            <a:noFill/>
          </a:ln>
        </p:spPr>
      </p:pic>
      <p:sp>
        <p:nvSpPr>
          <p:cNvPr id="1614" name="AutoShape 4"/>
          <p:cNvSpPr/>
          <p:nvPr/>
        </p:nvSpPr>
        <p:spPr>
          <a:xfrm>
            <a:off x="2895480" y="2362320"/>
            <a:ext cx="3962520" cy="2590560"/>
          </a:xfrm>
          <a:prstGeom prst="wedgeEllipseCallout">
            <a:avLst>
              <a:gd name="adj1" fmla="val 46032"/>
              <a:gd name="adj2" fmla="val 5043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subject and verb are in agreeme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AutoShape 6">
            <a:hlinkClick r:id="" action="ppaction://hlinkshowjump?jump=nextslide"/>
          </p:cNvPr>
          <p:cNvSpPr/>
          <p:nvPr/>
        </p:nvSpPr>
        <p:spPr>
          <a:xfrm>
            <a:off x="2895480" y="5486400"/>
            <a:ext cx="3124440" cy="1143000"/>
          </a:xfrm>
          <a:custGeom>
            <a:avLst/>
            <a:gdLst>
              <a:gd name="textAreaLeft" fmla="*/ 73800 w 3124440"/>
              <a:gd name="textAreaRight" fmla="*/ 3050640 w 31244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9033" h="21600">
                <a:moveTo>
                  <a:pt x="0" y="0"/>
                </a:moveTo>
                <a:lnTo>
                  <a:pt x="59033" y="0"/>
                </a:lnTo>
                <a:lnTo>
                  <a:pt x="59033" y="21600"/>
                </a:lnTo>
                <a:lnTo>
                  <a:pt x="0" y="21600"/>
                </a:lnTo>
                <a:close/>
              </a:path>
              <a:path fill="lightenLess" w="59033" h="21600">
                <a:moveTo>
                  <a:pt x="0" y="0"/>
                </a:moveTo>
                <a:lnTo>
                  <a:pt x="59033" y="0"/>
                </a:lnTo>
                <a:lnTo>
                  <a:pt x="57633" y="1400"/>
                </a:lnTo>
                <a:lnTo>
                  <a:pt x="1400" y="1400"/>
                </a:lnTo>
                <a:close/>
              </a:path>
              <a:path fill="darken" w="59033" h="21600">
                <a:moveTo>
                  <a:pt x="59033" y="0"/>
                </a:moveTo>
                <a:lnTo>
                  <a:pt x="59033" y="21600"/>
                </a:lnTo>
                <a:lnTo>
                  <a:pt x="57633" y="20200"/>
                </a:lnTo>
                <a:lnTo>
                  <a:pt x="57633" y="1400"/>
                </a:lnTo>
                <a:close/>
              </a:path>
              <a:path fill="darkenLess" w="59033" h="21600">
                <a:moveTo>
                  <a:pt x="59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33" y="20200"/>
                </a:lnTo>
                <a:close/>
              </a:path>
              <a:path fill="lighten" w="59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HERE t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ve forwar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66"/>
                </a:solidFill>
                <a:latin typeface="Arial"/>
              </a:rPr>
              <a:t>These create problems:</a:t>
            </a:r>
            <a:endParaRPr b="0" lang="en-US" sz="5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hras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at come between the subject pronoun and its verb —may contain plural words and confuse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4" name="Text Box 4"/>
          <p:cNvSpPr/>
          <p:nvPr/>
        </p:nvSpPr>
        <p:spPr>
          <a:xfrm>
            <a:off x="1066680" y="3429000"/>
            <a:ext cx="708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of the basketball player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s excited about tonight’s gam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5" name="Picture 5" descr="basketballanimate1"/>
          <p:cNvPicPr/>
          <p:nvPr/>
        </p:nvPicPr>
        <p:blipFill>
          <a:blip r:embed="rId1"/>
          <a:stretch/>
        </p:blipFill>
        <p:spPr>
          <a:xfrm>
            <a:off x="6781680" y="4267080"/>
            <a:ext cx="1857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500" autoRev="1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102,102)"/>
                                      </p:to>
                                    </p:set>
                                    <p:set>
                                      <p:cBhvr>
                                        <p:cTn id="40" dur="500" autoRev="1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102,102)"/>
                                      </p:to>
                                    </p:set>
                                    <p:set>
                                      <p:cBhvr>
                                        <p:cTn id="41" dur="500" autoRev="1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unc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The last book we read, as well as the five in the library, was fiction.</a:t>
            </a:r>
            <a:endParaRPr b="0" lang="en-US" sz="3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orrec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i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m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were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6666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o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18" name="Picture 4" descr="books"/>
          <p:cNvPicPr/>
          <p:nvPr/>
        </p:nvPicPr>
        <p:blipFill>
          <a:blip r:embed="rId1"/>
          <a:stretch/>
        </p:blipFill>
        <p:spPr>
          <a:xfrm>
            <a:off x="4724280" y="2438280"/>
            <a:ext cx="281304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66"/>
                </a:solidFill>
                <a:latin typeface="Arial"/>
              </a:rPr>
              <a:t>Oh No!</a:t>
            </a:r>
            <a:endParaRPr b="0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20" name="Picture 3" descr="shocked"/>
          <p:cNvPicPr/>
          <p:nvPr/>
        </p:nvPicPr>
        <p:blipFill>
          <a:blip r:embed="rId1"/>
          <a:stretch/>
        </p:blipFill>
        <p:spPr>
          <a:xfrm>
            <a:off x="6835680" y="3581280"/>
            <a:ext cx="2003400" cy="3124440"/>
          </a:xfrm>
          <a:prstGeom prst="rect">
            <a:avLst/>
          </a:prstGeom>
          <a:ln w="0">
            <a:noFill/>
          </a:ln>
        </p:spPr>
      </p:pic>
      <p:sp>
        <p:nvSpPr>
          <p:cNvPr id="1621" name="AutoShape 4"/>
          <p:cNvSpPr/>
          <p:nvPr/>
        </p:nvSpPr>
        <p:spPr>
          <a:xfrm>
            <a:off x="3276720" y="2209680"/>
            <a:ext cx="3962160" cy="2590920"/>
          </a:xfrm>
          <a:prstGeom prst="wedgeEllipseCallout">
            <a:avLst>
              <a:gd name="adj1" fmla="val 38981"/>
              <a:gd name="adj2" fmla="val 656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subject and verb are not in agreeme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AutoShape 5">
            <a:hlinkClick r:id="" action="ppaction://hlinkshowjump?jump=previousslide"/>
          </p:cNvPr>
          <p:cNvSpPr/>
          <p:nvPr/>
        </p:nvSpPr>
        <p:spPr>
          <a:xfrm>
            <a:off x="2895480" y="5486400"/>
            <a:ext cx="3124440" cy="1143000"/>
          </a:xfrm>
          <a:custGeom>
            <a:avLst/>
            <a:gdLst>
              <a:gd name="textAreaLeft" fmla="*/ 73800 w 3124440"/>
              <a:gd name="textAreaRight" fmla="*/ 3050640 w 31244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9033" h="21600">
                <a:moveTo>
                  <a:pt x="0" y="0"/>
                </a:moveTo>
                <a:lnTo>
                  <a:pt x="59033" y="0"/>
                </a:lnTo>
                <a:lnTo>
                  <a:pt x="59033" y="21600"/>
                </a:lnTo>
                <a:lnTo>
                  <a:pt x="0" y="21600"/>
                </a:lnTo>
                <a:close/>
              </a:path>
              <a:path fill="lightenLess" w="59033" h="21600">
                <a:moveTo>
                  <a:pt x="0" y="0"/>
                </a:moveTo>
                <a:lnTo>
                  <a:pt x="59033" y="0"/>
                </a:lnTo>
                <a:lnTo>
                  <a:pt x="57633" y="1400"/>
                </a:lnTo>
                <a:lnTo>
                  <a:pt x="1400" y="1400"/>
                </a:lnTo>
                <a:close/>
              </a:path>
              <a:path fill="darken" w="59033" h="21600">
                <a:moveTo>
                  <a:pt x="59033" y="0"/>
                </a:moveTo>
                <a:lnTo>
                  <a:pt x="59033" y="21600"/>
                </a:lnTo>
                <a:lnTo>
                  <a:pt x="57633" y="20200"/>
                </a:lnTo>
                <a:lnTo>
                  <a:pt x="57633" y="1400"/>
                </a:lnTo>
                <a:close/>
              </a:path>
              <a:path fill="darkenLess" w="59033" h="21600">
                <a:moveTo>
                  <a:pt x="59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33" y="20200"/>
                </a:lnTo>
                <a:close/>
              </a:path>
              <a:path fill="lighten" w="59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Click HERE t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99"/>
                </a:solidFill>
                <a:latin typeface="Arial"/>
              </a:rPr>
              <a:t>try agai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66"/>
                </a:solidFill>
                <a:latin typeface="Arial"/>
              </a:rPr>
              <a:t>CORRECT!</a:t>
            </a:r>
            <a:endParaRPr b="0" lang="en-US" sz="4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24" name="Picture 3" descr="happygirl2"/>
          <p:cNvPicPr/>
          <p:nvPr/>
        </p:nvPicPr>
        <p:blipFill>
          <a:blip r:embed="rId1"/>
          <a:stretch/>
        </p:blipFill>
        <p:spPr>
          <a:xfrm>
            <a:off x="6858000" y="4419720"/>
            <a:ext cx="1990800" cy="2076480"/>
          </a:xfrm>
          <a:prstGeom prst="rect">
            <a:avLst/>
          </a:prstGeom>
          <a:ln w="0">
            <a:noFill/>
          </a:ln>
        </p:spPr>
      </p:pic>
      <p:sp>
        <p:nvSpPr>
          <p:cNvPr id="1625" name="AutoShape 4"/>
          <p:cNvSpPr/>
          <p:nvPr/>
        </p:nvSpPr>
        <p:spPr>
          <a:xfrm>
            <a:off x="2895480" y="2362320"/>
            <a:ext cx="3962520" cy="2590560"/>
          </a:xfrm>
          <a:prstGeom prst="wedgeEllipseCallout">
            <a:avLst>
              <a:gd name="adj1" fmla="val 46032"/>
              <a:gd name="adj2" fmla="val 5043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subject and verb are in agreeme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AutoShape 6">
            <a:hlinkClick r:id="" action="ppaction://hlinkshowjump?jump=nextslide"/>
          </p:cNvPr>
          <p:cNvSpPr/>
          <p:nvPr/>
        </p:nvSpPr>
        <p:spPr>
          <a:xfrm>
            <a:off x="2895480" y="5486400"/>
            <a:ext cx="3124440" cy="1143000"/>
          </a:xfrm>
          <a:custGeom>
            <a:avLst/>
            <a:gdLst>
              <a:gd name="textAreaLeft" fmla="*/ 73800 w 3124440"/>
              <a:gd name="textAreaRight" fmla="*/ 3050640 w 31244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9033" h="21600">
                <a:moveTo>
                  <a:pt x="0" y="0"/>
                </a:moveTo>
                <a:lnTo>
                  <a:pt x="59033" y="0"/>
                </a:lnTo>
                <a:lnTo>
                  <a:pt x="59033" y="21600"/>
                </a:lnTo>
                <a:lnTo>
                  <a:pt x="0" y="21600"/>
                </a:lnTo>
                <a:close/>
              </a:path>
              <a:path fill="lightenLess" w="59033" h="21600">
                <a:moveTo>
                  <a:pt x="0" y="0"/>
                </a:moveTo>
                <a:lnTo>
                  <a:pt x="59033" y="0"/>
                </a:lnTo>
                <a:lnTo>
                  <a:pt x="57633" y="1400"/>
                </a:lnTo>
                <a:lnTo>
                  <a:pt x="1400" y="1400"/>
                </a:lnTo>
                <a:close/>
              </a:path>
              <a:path fill="darken" w="59033" h="21600">
                <a:moveTo>
                  <a:pt x="59033" y="0"/>
                </a:moveTo>
                <a:lnTo>
                  <a:pt x="59033" y="21600"/>
                </a:lnTo>
                <a:lnTo>
                  <a:pt x="57633" y="20200"/>
                </a:lnTo>
                <a:lnTo>
                  <a:pt x="57633" y="1400"/>
                </a:lnTo>
                <a:close/>
              </a:path>
              <a:path fill="darkenLess" w="59033" h="21600">
                <a:moveTo>
                  <a:pt x="59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33" y="20200"/>
                </a:lnTo>
                <a:close/>
              </a:path>
              <a:path fill="lighten" w="59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HERE t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ve forwar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Try these online verb games</a:t>
            </a: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1828800" y="1523520"/>
            <a:ext cx="6781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ats Ga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ubject-Verb Quiz 1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ubject-Verb Quiz 2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ubject-Verb Quiz 3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ubject-Verb Quiz 4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ubject-Verb Agreemen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Quiz Show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9" name="AutoShape 4"/>
          <p:cNvSpPr/>
          <p:nvPr/>
        </p:nvSpPr>
        <p:spPr>
          <a:xfrm>
            <a:off x="1143000" y="1600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AutoShape 5"/>
          <p:cNvSpPr/>
          <p:nvPr/>
        </p:nvSpPr>
        <p:spPr>
          <a:xfrm>
            <a:off x="1143000" y="21337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AutoShape 6"/>
          <p:cNvSpPr/>
          <p:nvPr/>
        </p:nvSpPr>
        <p:spPr>
          <a:xfrm>
            <a:off x="1143000" y="44956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AutoShape 7"/>
          <p:cNvSpPr/>
          <p:nvPr/>
        </p:nvSpPr>
        <p:spPr>
          <a:xfrm>
            <a:off x="1143000" y="51055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AutoShape 8"/>
          <p:cNvSpPr/>
          <p:nvPr/>
        </p:nvSpPr>
        <p:spPr>
          <a:xfrm>
            <a:off x="1143000" y="26668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AutoShape 9"/>
          <p:cNvSpPr/>
          <p:nvPr/>
        </p:nvSpPr>
        <p:spPr>
          <a:xfrm>
            <a:off x="1143000" y="327672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AutoShape 10"/>
          <p:cNvSpPr/>
          <p:nvPr/>
        </p:nvSpPr>
        <p:spPr>
          <a:xfrm>
            <a:off x="1143000" y="3886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These create problems:</a:t>
            </a: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bs that accompany pronouns such a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ill be determined by whether the pronoun is referring to something that is COUNTABLE or not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8" name="Text Box 4"/>
          <p:cNvSpPr/>
          <p:nvPr/>
        </p:nvSpPr>
        <p:spPr>
          <a:xfrm>
            <a:off x="1066680" y="3962520"/>
            <a:ext cx="708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om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f the workers on the building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hav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left for the day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Oval 5"/>
          <p:cNvSpPr/>
          <p:nvPr/>
        </p:nvSpPr>
        <p:spPr>
          <a:xfrm>
            <a:off x="5715000" y="5334120"/>
            <a:ext cx="2743200" cy="1371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ould coun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maz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These create problems:</a:t>
            </a: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bs that accompany pronouns such a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ill be determined by whether the pronoun is referring to something that is COUNTABLE or not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2" name="Text Box 4"/>
          <p:cNvSpPr/>
          <p:nvPr/>
        </p:nvSpPr>
        <p:spPr>
          <a:xfrm>
            <a:off x="1066680" y="3962520"/>
            <a:ext cx="708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om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f the salt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a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pilled on the floor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Oval 5"/>
          <p:cNvSpPr/>
          <p:nvPr/>
        </p:nvSpPr>
        <p:spPr>
          <a:xfrm>
            <a:off x="5105520" y="5181480"/>
            <a:ext cx="3124080" cy="1371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lt is consider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lump it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oop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0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69" dur="10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03,0)"/>
                                      </p:to>
                                    </p:set>
                                    <p:set>
                                      <p:cBhvr>
                                        <p:cTn id="70" dur="10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a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These create problems:</a:t>
            </a: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usually regarded as singular, but it can be used as a plural pronoun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6" name="Text Box 4"/>
          <p:cNvSpPr/>
          <p:nvPr/>
        </p:nvSpPr>
        <p:spPr>
          <a:xfrm>
            <a:off x="685800" y="2819520"/>
            <a:ext cx="80010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on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 the boys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a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elped at the game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on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the boys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av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elped at the gam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Oval 5"/>
          <p:cNvSpPr/>
          <p:nvPr/>
        </p:nvSpPr>
        <p:spPr>
          <a:xfrm>
            <a:off x="5715000" y="3429000"/>
            <a:ext cx="3124080" cy="1371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ther is correc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lewm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These create problems:</a:t>
            </a: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rases such a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together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with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long wi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s well a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eem to combine subjects, but they do not 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0" name="Text Box 4"/>
          <p:cNvSpPr/>
          <p:nvPr/>
        </p:nvSpPr>
        <p:spPr>
          <a:xfrm>
            <a:off x="457200" y="2819520"/>
            <a:ext cx="8001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e of the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tile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our room, as well as the hall,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a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oaked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ajo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roble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we had, together with that of our teacher,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a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ardines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Oval 5"/>
          <p:cNvSpPr/>
          <p:nvPr/>
        </p:nvSpPr>
        <p:spPr>
          <a:xfrm>
            <a:off x="5791320" y="5181480"/>
            <a:ext cx="3124080" cy="1371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be fool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extra phrase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lwayssomething.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These create problems:</a:t>
            </a: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ith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eith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ppear as a subject alone (without the word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, they are singular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4" name="Text Box 4"/>
          <p:cNvSpPr/>
          <p:nvPr/>
        </p:nvSpPr>
        <p:spPr>
          <a:xfrm>
            <a:off x="457200" y="2819520"/>
            <a:ext cx="8001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Eith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those answers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eem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o be right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 You can have the bed by the window or the one by the door.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Eith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kay with m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Oval 5"/>
          <p:cNvSpPr/>
          <p:nvPr/>
        </p:nvSpPr>
        <p:spPr>
          <a:xfrm>
            <a:off x="5562720" y="5334120"/>
            <a:ext cx="3124080" cy="1371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ms like plur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g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etsse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3T19:53:12Z</dcterms:created>
  <dc:creator>Jefferson County Schools</dc:creator>
  <dc:description/>
  <dc:language>en-US</dc:language>
  <cp:lastModifiedBy>Nadia Williams</cp:lastModifiedBy>
  <dcterms:modified xsi:type="dcterms:W3CDTF">2014-03-12T16:09:24Z</dcterms:modified>
  <cp:revision>24</cp:revision>
  <dc:subject/>
  <dc:title>Verb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owTimer">
    <vt:bool>1</vt:bool>
  </property>
</Properties>
</file>